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C4D-A7DE-4D11-8F9A-3F948ED3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876-E0BF-4500-9E4F-EA476884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FE75-1B5E-43C2-9DE4-5F1A37DB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44F8-40B2-4832-87B6-F7D36449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B57D-74E9-403C-8FFC-799545FE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C2F5-F5E7-4DF0-A316-3E2FBD84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16FE-FFFF-4BCB-9B6F-BB86BE91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000C-812C-475B-876B-35659CB5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9EDC-36ED-414E-AFEA-1B7F096F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A9E9-2009-4D89-80DD-4CCDA5EA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C573-E96B-48D7-A050-E6298498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D1C-2D30-4591-9C40-45CE3A85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1641-64C0-4DA3-9E16-803D7E13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7BD7-EB64-4006-AFCB-35E59264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56A7-16F7-483A-8BFD-59A871CC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E5C5-7EC9-4BB4-9A61-03D089D7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B561-AF59-49A7-9A26-A10F72FD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AD63B-A038-47DC-BD7F-CEC9D1AE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52537-A0F9-4C21-8D2A-D28A3037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4F9B6-3E41-4BE8-8110-DBE33C2B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BB8B0-09FA-494E-854F-F3B011CA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D4DEB-DDD0-4457-95D1-5768D776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0A3-803B-4C4D-9D75-7805066E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F728C-4F30-4888-8A35-123B152F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3B098-871A-48B5-A425-7E40ADE8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FE8A8-9675-41D9-AF11-C0FD7F8E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B2279-7E4A-4246-99B2-8E586C8E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DE9F-A704-40D2-9794-652A6CBD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A022-9235-44FB-9F96-39BA6AE6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68E5-CBCD-46F4-AD22-5914083A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5CD7F-7CB7-47FD-8B03-8260F962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9D9F-1079-401B-842E-5A00BEEB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EF08C-35A6-4A98-8BEA-15420AD1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EB3-36D9-487A-82FE-85E62293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F827C-EC99-4D9C-AD31-DA489558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B3E85-3DDA-45F3-887B-EE243AAA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9A4F1-7D5E-4585-AC3E-F90758FB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64A55-2B09-4896-ACCC-5BA9E5FA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90F65-6300-4C6B-B296-DA20D467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64BF5-55D0-48C9-BAEC-D476EE27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7E400-46E4-4499-96FF-3B59420D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CE9CA-46C3-420E-B852-52137ACF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66416-E9A6-479D-8A44-3BB46CD9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0F2-DA51-46BD-97F1-F392B3D7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D8E4-BD8E-49C1-8ADD-1611F0A0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9DF-FC1B-4E1C-83FA-D2F82FA7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DE1-0EBE-419E-B4A0-3F3AA191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F3F-7F0C-4E38-B0C7-8AAB6FA4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ľná form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ľná form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EB4B-01B2-4A70-BD97-FDFC1133B024}" type="slidenum">
              <a:rPr b="0" lang="sk-SK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oľná form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oľná form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oľná form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oľná form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oľná form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oľná form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oľná form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oľná form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oľná form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oľná form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303A-14D9-4413-8B9D-8FD7D2BB6DAD}" type="slidenum">
              <a:rPr b="0" lang="sk-SK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oľná form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oľná form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oľná form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oľná form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oľná form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oľná form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BB56-5A11-4D53-BB3D-9577E8095678}" type="slidenum">
              <a:rPr b="0" lang="sk-SK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ĺžnik s jedným odstrihnutým a zaobleným rohom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avouhlý trojuholní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oľná forma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ľná forma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9F32-59F8-4FAC-857A-788D31204DC3}" type="slidenum">
              <a:rPr b="0" lang="sk-SK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hyperlink" Target="file:///Amerika%20od%20A%20po%20Z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4617b"/>
                </a:solidFill>
                <a:latin typeface="Calibri"/>
              </a:rPr>
              <a:t>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00"/>
                </a:solidFill>
                <a:latin typeface="Constantia"/>
              </a:rPr>
              <a:t>Indiá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Iguaz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Inkov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Constantia"/>
              </a:rPr>
              <a:t>autor: Andrej Zuri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Šípka doprava 3">
            <a:hlinkClick r:id="rId3"/>
          </p:cNvPr>
          <p:cNvSpPr/>
          <p:nvPr/>
        </p:nvSpPr>
        <p:spPr>
          <a:xfrm>
            <a:off x="5786280" y="5143680"/>
            <a:ext cx="2357640" cy="1000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d0d0d"/>
                </a:solidFill>
                <a:latin typeface="Constantia"/>
              </a:rPr>
              <a:t>späť do reg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4617b"/>
                </a:solidFill>
                <a:latin typeface="Calibri"/>
              </a:rPr>
              <a:t>Indian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Constantia"/>
              </a:rPr>
              <a:t>Indiáni alebo Amerikania - tak nazývali veľmi dávno Američano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Constantia"/>
              </a:rPr>
              <a:t>pôvodní obyvatelia Ameriky, patri k mongoloidnej r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späť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http://www.horaren.sk/wp-content/uploads/indiani.jpg"/>
          <p:cNvPicPr/>
          <p:nvPr/>
        </p:nvPicPr>
        <p:blipFill>
          <a:blip r:embed="rId2"/>
          <a:stretch/>
        </p:blipFill>
        <p:spPr>
          <a:xfrm>
            <a:off x="3643200" y="3429000"/>
            <a:ext cx="3943440" cy="2381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://www.heyokamagazine.com/giantrez.4.jpg"/>
          <p:cNvPicPr/>
          <p:nvPr/>
        </p:nvPicPr>
        <p:blipFill>
          <a:blip r:embed="rId3"/>
          <a:stretch/>
        </p:blipFill>
        <p:spPr>
          <a:xfrm>
            <a:off x="857160" y="3500280"/>
            <a:ext cx="2071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4617b"/>
                </a:solidFill>
                <a:latin typeface="Calibri"/>
              </a:rPr>
              <a:t>Iguaz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Constantia"/>
              </a:rPr>
              <a:t>Vodopády Iguazu predstavujú najväčší systém vodopádov na Zem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Constantia"/>
              </a:rPr>
              <a:t>nachádzajú sa v Južnej Amerike, na hranici Brazílie a Argentí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Constantia"/>
              </a:rPr>
              <a:t>spolu sa tu nachádza 270 kaská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späť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http://fotogaleria.lastminute.sk/data/Foto/26845/1024/Argentina-cataratas-de-Iguazu-vodopady-9499.jpg"/>
          <p:cNvPicPr/>
          <p:nvPr/>
        </p:nvPicPr>
        <p:blipFill>
          <a:blip r:embed="rId2"/>
          <a:stretch/>
        </p:blipFill>
        <p:spPr>
          <a:xfrm>
            <a:off x="6215040" y="421488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vzone.vn/Resources/StyleOld/2009_05_30/2855/iguazu_800.jpg"/>
          <p:cNvPicPr/>
          <p:nvPr/>
        </p:nvPicPr>
        <p:blipFill>
          <a:blip r:embed="rId3"/>
          <a:stretch/>
        </p:blipFill>
        <p:spPr>
          <a:xfrm>
            <a:off x="2714760" y="4214880"/>
            <a:ext cx="277164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000" spc="-1" strike="noStrike">
                <a:solidFill>
                  <a:srgbClr val="04617b"/>
                </a:solidFill>
                <a:latin typeface="Calibri"/>
              </a:rPr>
              <a:t>Inkov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Constantia"/>
              </a:rPr>
              <a:t>Podľa inkskej tradície vznikla Inkská ríša zhruba okolo roku 1200 pred Kr. a založil ju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Constantia"/>
              </a:rPr>
              <a:t>legendárny Manco Capac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Constantia"/>
              </a:rPr>
              <a:t>Prvými vládcami Inkov boli náčelníci vládnúci malému územiu okolo Cus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Constantia"/>
              </a:rPr>
              <a:t>späť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http://www.pluska.sk/images/gallery/zahranicie/2008/10/o_inkovia3107.jpg"/>
          <p:cNvPicPr/>
          <p:nvPr/>
        </p:nvPicPr>
        <p:blipFill>
          <a:blip r:embed="rId1"/>
          <a:stretch/>
        </p:blipFill>
        <p:spPr>
          <a:xfrm>
            <a:off x="7072200" y="3714840"/>
            <a:ext cx="1287720" cy="1825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Zobraziť obrázok v plnej veľkosti"/>
          <p:cNvPicPr/>
          <p:nvPr/>
        </p:nvPicPr>
        <p:blipFill>
          <a:blip r:embed="rId2"/>
          <a:stretch/>
        </p:blipFill>
        <p:spPr>
          <a:xfrm>
            <a:off x="4572000" y="4071960"/>
            <a:ext cx="2000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5:35Z</dcterms:created>
  <dc:creator>Žiak</dc:creator>
  <dc:description/>
  <dc:language>en-US</dc:language>
  <cp:lastModifiedBy>lenovo_ntb</cp:lastModifiedBy>
  <dcterms:modified xsi:type="dcterms:W3CDTF">2010-06-13T12:44:26Z</dcterms:modified>
  <cp:revision>13</cp:revision>
  <dc:subject/>
  <dc:title>Snímka 1</dc:title>
</cp:coreProperties>
</file>