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E58-3392-4140-98DF-8E81FD9B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523-E984-45A1-B70F-EB342249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7BDD8-6D1E-44A5-A489-BC6E979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AFA27-47D2-447F-B7F9-DEEC616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F28BE-F568-4317-BF0C-314CC2D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5F17-CD91-4B4B-A5ED-4341E40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EAF9B-F849-4D10-8543-4C6450C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BD53C-E061-48CD-A996-8B1F23BB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7215C-3E57-49FF-8896-BBA2832E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21A38-F132-427F-B185-D85699F3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97170-5B56-45E8-BD0E-79C01964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CE2-AEB3-4D5F-87FB-2FF6CAE7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FF8-B420-4C23-90D1-4A8DB3C3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1A8B-4657-4C8E-9A82-F03F53A4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C913-D7A2-4537-A9E9-B3B0DEB0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86EB-3CD4-4DBF-9B8F-AC9E3F90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45F-644A-4544-94BB-0FF64B0A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4407-F8F6-4254-A584-B4AF12B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28B-F21A-4923-B9F1-9B4EF43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425-C036-447B-98D8-22BCC70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BF5-8C53-4204-9307-CA57D332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4E80-B1F3-45F4-B604-8FA57812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2738-FD24-4A4A-8949-122BD57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9DB7-58C4-44CE-88C1-C8E3149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4E6-EA5B-47DB-BF18-402B4114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636E-75A8-4D1D-B4EA-5ACB4F92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ACBB-74F9-4D3D-9F58-A8DFDB67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B086-1D53-4EB1-AA1E-B5F47041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AD82-36EF-4364-A31F-EF876413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E93A-FF94-49AB-B8B8-BF2396E7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280B-B850-43FE-A959-08402CB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5D1-151D-43FC-88A9-435E436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BFAA-D363-471F-8CA0-02703BA2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A5F6-1005-409E-97B2-8DAC9A5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98C9-D649-4CF3-9E3C-47A1867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6C75-BCD1-4627-A6DD-822C1013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F5E9-E297-45C5-87E1-2F2743BB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0B7F-A2C3-46E9-98E0-1BC9F49B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E0D3-A4C4-4DDB-B302-08104FE8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1797-C006-463A-9ED5-A8CB23CB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543F-1F92-47A7-A272-D7B5F0CD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0C4A-1F4E-4BF2-9D8D-DCEFE0DE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60A-951C-49EA-8A8B-B4B27B3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1550-E55A-4C07-8FE6-62B27C6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A4E7A-E2C0-4834-A8AB-CECC5909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0137F-A903-4D89-AF36-2ACD69EC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1E25-9B8D-400D-ABF7-3CACE02B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7B30-F934-46E9-8DD3-2ED5CB0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C5AC-B04B-4B69-826D-180BA3A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CCA0-0C42-4732-8F80-D1406E8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4564-955C-4AA6-92EB-F3A31224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51FA-65F8-4B38-A10E-6F55167F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38CE-F618-44DA-926B-705408CA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865-B03F-47FB-863B-1745569D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9AA4-DC13-4C6E-B8D8-235C1F9C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3B49-5248-4E92-90B2-9EABE0E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0DE8-D028-48BF-A6CD-82CBE11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DEDF-D00A-479F-B816-5F4A97A7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0EE5-F96F-49C4-A221-26E916C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1EBE-6377-4CCC-A7FD-84887B6B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332C-0E74-4ABE-A1B5-1462901D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167D6-A861-4F25-9953-14CFA4E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9A6C7-CBD8-4121-B963-E5997C75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9E11-619E-4166-8CFE-BF0883EB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0F6-D93D-41B0-AD01-5D1BD34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EF9F-1E42-410D-8DC0-FC0D5210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40C4-9369-47E5-8827-9FC670DE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E94F-5F0E-48DD-8176-D5CE0E1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781A-5AAB-4CFF-BE55-FA3411DD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8F310-14D3-4D5F-B07B-F452D91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8D42-056A-4CC9-A6AB-CB337B91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7DD1-23C8-4297-BB94-9492FB4B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9AD5-C7EE-48A6-99C4-BFB538B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23C63-5FE1-42E8-A389-EE273BD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02CB-1F47-4E92-9B23-9F27610F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159-4801-462F-B106-B6E64E6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FB017-AE5F-45CF-859E-C6D0C6BB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0DA29-9465-422B-8133-34527BD4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E177-CDB1-4B0C-8107-8AEC7AAC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6C8AD-AF23-4136-8143-A747921D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F5495-3A98-481C-85F8-5B26D6FC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2F32-14E4-4C7E-9B37-CD290F29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1337-BE05-4FC3-84A0-8241C15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5481-A4AA-4894-B4DA-DFD15723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89DC-5669-4A6B-B008-1347FAAE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53C9-282C-4C53-A672-0C3C4B7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4CC-3895-47C3-88B5-6BDF25E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88B13-0F9F-4D0F-AFB0-BC27BC3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1F639-B541-4423-9B85-97938028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2BAD-314E-4635-9E6F-BE606429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6E7A-A49B-46A0-8182-0A751C82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213B-691D-4D55-9A65-37752B6E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89E23-7335-439C-A8E3-BBA5029D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5339B-2EE2-418C-8893-4401BEB6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B55A-ECA7-4757-8D53-9E5BE740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91AC0-BCA8-40A4-AEA9-11D5E41E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E7D00-EE35-4807-AE41-13C81A9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DAE-042A-45F5-86DB-D76E33D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89A4-00FA-4612-BA72-1279912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8FD53-6B21-44A2-8D71-59FB02A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E1A02-044B-4038-8DB5-D9CEDEB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C7311-35C0-4FBB-8CC6-AFBA0AC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81C0-31BC-4634-A906-33317E4B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6567-9A4C-448F-8CEB-32AE92CC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AAF2-488F-4D21-882A-DA9A775D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71519-BE3F-479D-A24A-1739BE22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534A6-7035-481D-A126-A4356CC0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9A0E5-9197-4073-8B3A-5616DB7B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vná spojnic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85B-258B-464C-961F-AF0E250EFAD9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ovná spojnic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Rovná spojnic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vná spojnic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EC8A-A925-4240-AFD4-1368E449C351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ovná spojnic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Rovná spojnic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Rovná spojnic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5B4D-099E-43B9-9FBE-2D7F56021E60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ovná spojnic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E929-26C7-4EE3-AD0C-1EA5F74EB8C7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ovná spojnic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B4FB-EB24-4DD4-9163-018F6FDFFF7A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D204-2EE4-4D1F-A2E4-E54CCA5158EE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ovná spojnic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EC10-48BA-4C1D-AD7A-56F297B6E7AB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2F99-0AFD-429D-AF77-EB6DB63C4069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2FB-23E2-47D7-898A-975A8E5335CA}" type="slidenum">
              <a:rPr b="0" lang="sk-SK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hyperlink" Target="file:///Amerika%20od%20A%20po%20Z.ppt" TargetMode="External"/><Relationship Id="rId6" Type="http://schemas.openxmlformats.org/officeDocument/2006/relationships/hyperlink" Target="file:///Amerika%20od%20A%20po%20Z.ppt" TargetMode="External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jpeg"/><Relationship Id="rId4" Type="http://schemas.openxmlformats.org/officeDocument/2006/relationships/hyperlink" Target="http://www.google.sk/imgres?imgurl=http://www.yesterdayla.com/Graphics/HollywoodBlvd7.jpg&amp;imgrefurl=http://www.yesterdayla.com/hollywood.html&amp;usg=__2-2eOXbBoBW5tcN8CD9LFyWxqx8=&amp;h=511&amp;w=810&amp;sz=137&amp;hl=sk&amp;start=4&amp;um=1&amp;itbs=1&amp;tbnid=BIo-jU5qsOrFhM:&amp;tbnh=91&amp;tbnw=144&amp;prev=/images?q=hollywood&amp;um=1&amp;hl=sk&amp;sa=N&amp;rlz=1R2SKPB_skSK379&amp;tbs=isch: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k.wikipedia.org/wiki/1610" TargetMode="External"/><Relationship Id="rId3" Type="http://schemas.openxmlformats.org/officeDocument/2006/relationships/slide" Target="slide1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-171360" y="55440"/>
            <a:ext cx="9169200" cy="22431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Hollywoo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Hudsonov  záliv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 action="ppaction://hlinksldjump"/>
              </a:rPr>
              <a:t>Hav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Franklin Gothic Book"/>
              </a:rPr>
              <a:t>autor: Andrea Gulašová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Šípka doprava 3">
            <a:hlinkClick r:id="rId5"/>
          </p:cNvPr>
          <p:cNvSpPr/>
          <p:nvPr/>
        </p:nvSpPr>
        <p:spPr>
          <a:xfrm>
            <a:off x="6072120" y="4929120"/>
            <a:ext cx="235764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d0d0d"/>
                </a:solidFill>
                <a:latin typeface="Franklin Gothic Book"/>
              </a:rPr>
              <a:t>späť do </a:t>
            </a:r>
            <a:r>
              <a:rPr b="0" lang="sk-SK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registr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4e3b30"/>
                </a:solidFill>
                <a:latin typeface="Franklin Gothic Book"/>
              </a:rPr>
              <a:t>Hollywood je okres  v meste Los Angeles v americkom štáte Kalifornia . Nachádza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sk-SK" sz="3000" spc="-1" strike="noStrike">
                <a:solidFill>
                  <a:srgbClr val="4e3b30"/>
                </a:solidFill>
                <a:latin typeface="Franklin Gothic Book"/>
              </a:rPr>
              <a:t>sa na západo-severozápadne od stredu mesta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späť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http://www.visitingdc.com/images/hollywood-sign-address.jpg"/>
          <p:cNvPicPr/>
          <p:nvPr/>
        </p:nvPicPr>
        <p:blipFill>
          <a:blip r:embed="rId3"/>
          <a:stretch/>
        </p:blipFill>
        <p:spPr>
          <a:xfrm rot="759600">
            <a:off x="4038480" y="3538440"/>
            <a:ext cx="4643640" cy="3465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http://t2.gstatic.com/images?q=tbn:BIo-jU5qsOrFhM:http://www.yesterdayla.com/Graphics/HollywoodBlvd7.jpg">
            <a:hlinkClick r:id="rId4"/>
          </p:cNvPr>
          <p:cNvPicPr/>
          <p:nvPr/>
        </p:nvPicPr>
        <p:blipFill>
          <a:blip r:embed="rId5"/>
          <a:stretch/>
        </p:blipFill>
        <p:spPr>
          <a:xfrm rot="889800">
            <a:off x="566280" y="3526920"/>
            <a:ext cx="32702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Nachádza sa severovýchode Kanad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Pomenovali ho podľa Henryho Hudsona, ktorý záliv preskúmal v roku </a:t>
            </a:r>
            <a:r>
              <a:rPr b="0" lang="sk-SK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1610</a:t>
            </a: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 na lodi </a:t>
            </a:r>
            <a:r>
              <a:rPr b="0" i="1" lang="sk-SK" sz="3200" spc="-1" strike="noStrike">
                <a:solidFill>
                  <a:srgbClr val="4e3b30"/>
                </a:solidFill>
                <a:latin typeface="Franklin Gothic Book"/>
              </a:rPr>
              <a:t>Discov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späť</a:t>
            </a: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Súbor:HudsonBay.MODIS.2005may21.jpg"/>
          <p:cNvPicPr/>
          <p:nvPr/>
        </p:nvPicPr>
        <p:blipFill>
          <a:blip r:embed="rId4"/>
          <a:stretch/>
        </p:blipFill>
        <p:spPr>
          <a:xfrm>
            <a:off x="6143760" y="3500280"/>
            <a:ext cx="22003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4e3b30"/>
                </a:solidFill>
                <a:latin typeface="Franklin Gothic Book"/>
              </a:rPr>
              <a:t>Havana</a:t>
            </a: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 je hlavné a najväčšie mesto Kub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Má rozlohu 721,01 km² a žije tu 2,3 milióna obyvateľov, v metropolitnej oblasti vyše 3 milión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späť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Súbor:Sancristobalcathedral.jpg"/>
          <p:cNvPicPr/>
          <p:nvPr/>
        </p:nvPicPr>
        <p:blipFill>
          <a:blip r:embed="rId2"/>
          <a:stretch/>
        </p:blipFill>
        <p:spPr>
          <a:xfrm>
            <a:off x="3643200" y="3214800"/>
            <a:ext cx="43466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26:01Z</dcterms:created>
  <dc:creator>Admin</dc:creator>
  <dc:description/>
  <dc:language>en-US</dc:language>
  <cp:lastModifiedBy>lenovo_ntb</cp:lastModifiedBy>
  <dcterms:modified xsi:type="dcterms:W3CDTF">2010-06-13T12:24:35Z</dcterms:modified>
  <cp:revision>6</cp:revision>
  <dc:subject/>
  <dc:title>Snímka 1</dc:title>
</cp:coreProperties>
</file>