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9AD-D5CB-44F8-9BFC-4449DA7F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117-9B55-459F-87EB-8B1ACEF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6F5-D0AB-48F4-BE5B-8312AEF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D80-E664-4B54-8932-DB4288C6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DE39-549C-4E1E-B4A7-253A0E56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E4E6-8815-4AE6-A10F-9D15C5CC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ED8B-C599-4FEE-B7A2-1B90443B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E3B-7F4F-4C27-88C5-87C2B5A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2B5-9926-48B8-A9CB-0BEB0DD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DA46-1721-4B23-BC65-1990627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6A6B-276C-4887-AB40-C837F46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8FB-4BFA-4B65-B77F-EDC8A03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3D06-05DE-4EE6-9E7E-E7A143A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858-462B-4F08-A8AB-20A5FD0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0A7D-43CF-4BA8-AC14-E77EF51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E2E-6E66-41D9-A370-BF5126D1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2685-2CB4-4B70-B55D-AD948503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255C-D11B-407B-A8BF-DAC2C8F7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78AE-9FAA-4258-8747-6658311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4D0E-FD3F-4067-85C4-7D850AF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912F-9D24-4E58-B313-1D7933A9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7631-4599-427F-BB5B-3E9A3F7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D96-F99D-4D40-99AE-57D4D25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BC46-C241-4E9B-B9F8-8C2B223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9D7F-92B2-45BC-BEC3-97B09DC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AC0A-F05C-4CBA-A1B0-B49108B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FC8B-6005-4A32-940E-3CE7332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00BF-D084-4D96-82AD-BF740EB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34CE-E948-4F44-9E1E-3A7E021B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D1E7-590F-4779-8A7A-10329795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F036-832F-4E0E-BDF5-45336AA6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C9D1-A1FF-40E2-9EAF-5B7B2FD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A8EC-A6F4-4D51-878D-15028E6C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3E4-F4E5-4CB7-8DFF-41AB12D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8292-D407-4B29-80D4-820049C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CF6A-A69C-4BF7-949D-CD6BE6E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856C-5877-42BE-A963-371742C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9253-6378-495D-8A2B-5E2DA1F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7EA6-8B66-451E-8C7F-82D5780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4793-622E-44AC-8333-D6AED57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39D9-DFD0-4B0E-A911-43F1A62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8C4B-765E-4131-9224-3AA83AFA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00D5-0B36-4AC0-8138-808DFFB8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3DEE-66D6-4BAF-9B12-72D6DBED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912-F927-46ED-A435-26023A6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60EF-D80E-4994-88FB-3A509659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7602-B982-4367-A08E-82D9A500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DCC9-F590-4583-A19F-DAAFF45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CB63-102C-4157-9579-6C24858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EDBF-8557-4B59-9A49-5F584E2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0CF84-B0B3-4B5F-AD7B-C996577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31B0-8507-42B0-911E-3F1AE74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9BF3-5D46-4555-ABBF-EA2EE29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F801-68ED-4C21-B712-7C969CC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11C0-B84D-4840-B00E-E7144AEA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37-2045-4D96-8EEE-8F2F937F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35DF-AA13-4BCC-84F0-E3853D93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88DF3-C599-4A99-9516-EEC72F66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EF72-E32D-4E26-BE71-5DEBF55B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1966-3981-40AC-894F-73833F6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D8D5-AA99-4D63-80EB-42D4942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D1B7-0C87-4955-B46F-1D987A0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0401-7878-4183-89EA-DC6F5E1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4F19-F865-47EB-B840-C39AEEE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2E4C-543E-4FC9-A566-571E6AFF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2DB1-8D3D-46FE-8E72-8FAE4421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4F6-6538-449D-8C41-617A00D3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5AF1-DAD0-4F85-A942-AF791440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20F6-5F14-4A55-B6BA-0F0594E4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BEDBD-9BC6-4D6A-BE16-710BDA60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3F65-C270-4A8B-BE55-826AF179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F912-7D1A-422B-8A65-44A1DB34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1FE8E-7991-45CB-8096-4110DBA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49B40-80A6-4383-B523-72217FE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3893D-B942-4001-A1D3-73ABC4B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23EE-37EA-438C-80E9-A9685B1C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1C4C-8761-4EA7-BE61-3FD6DC6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57D-F5A4-4135-B9A4-C5F51BE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D1B7-F8EA-4D7D-8969-6F0AC0C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EDE86-153B-4CB2-B5F7-A8A9F7A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9BCA-BAF7-4569-8A1E-6A655528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1B00-F467-40CF-8A92-434EF072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9197-9B44-453D-B168-5C475874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AF1-CB08-4DCC-8883-3BDAAEE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E262-7BD1-4883-A538-2DEBDE511E7E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á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á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á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B90-BBF2-4C54-9062-C023535FB4F7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ĺž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á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á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á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59B-721A-43C5-8D8C-6C308750439C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BDD-0180-44EC-9BA1-D143AE8BC69A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ĺž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648B-4B64-4DD0-870A-FCD136BBB193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78A-E572-4E47-9F24-6C6726ACD7DA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ĺžni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ĺžni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1B09-4671-4EAB-8B54-6DC14E20F36F}" type="slidenum">
              <a:rPr b="0" lang="sk-SK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.ppt" TargetMode="External"/><Relationship Id="rId3" Type="http://schemas.openxmlformats.org/officeDocument/2006/relationships/hyperlink" Target="file:///D2.ppt" TargetMode="External"/><Relationship Id="rId4" Type="http://schemas.openxmlformats.org/officeDocument/2006/relationships/hyperlink" Target="file:///G.ppt" TargetMode="External"/><Relationship Id="rId5" Type="http://schemas.openxmlformats.org/officeDocument/2006/relationships/hyperlink" Target="file:///H.ppt" TargetMode="External"/><Relationship Id="rId6" Type="http://schemas.openxmlformats.org/officeDocument/2006/relationships/hyperlink" Target="file:///I.ppt" TargetMode="External"/><Relationship Id="rId7" Type="http://schemas.openxmlformats.org/officeDocument/2006/relationships/hyperlink" Target="file:///K.ppt" TargetMode="External"/><Relationship Id="rId8" Type="http://schemas.openxmlformats.org/officeDocument/2006/relationships/hyperlink" Target="file:///M.ppt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572314"/>
                </a:solidFill>
                <a:latin typeface="Gill Sans MT"/>
              </a:rPr>
              <a:t> „</a:t>
            </a:r>
            <a:r>
              <a:rPr b="0" lang="sk-SK" sz="4300" spc="-1" strike="noStrike">
                <a:solidFill>
                  <a:srgbClr val="572314"/>
                </a:solidFill>
                <a:latin typeface="Gill Sans MT"/>
              </a:rPr>
              <a:t>Amerika od A po Z“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28576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320e04"/>
                </a:solidFill>
                <a:latin typeface="Gill Sans MT"/>
              </a:rPr>
              <a:t>aktivita v rámci projektu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320e04"/>
                </a:solidFill>
                <a:latin typeface="Gill Sans MT"/>
              </a:rPr>
              <a:t>Školy pre budúcnos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http://www.cpf.sk/files/File/FINAL_NadaciaOrange-RGB-Logo.jpg"/>
          <p:cNvPicPr/>
          <p:nvPr/>
        </p:nvPicPr>
        <p:blipFill>
          <a:blip r:embed="rId1"/>
          <a:stretch/>
        </p:blipFill>
        <p:spPr>
          <a:xfrm>
            <a:off x="4071960" y="5133960"/>
            <a:ext cx="4476600" cy="1409760"/>
          </a:xfrm>
          <a:prstGeom prst="rect">
            <a:avLst/>
          </a:prstGeom>
          <a:ln w="0">
            <a:noFill/>
          </a:ln>
        </p:spPr>
      </p:pic>
      <p:sp>
        <p:nvSpPr>
          <p:cNvPr id="321" name="Šípka doprava 4">
            <a:hlinkClick r:id="rId2" action="ppaction://hlinksldjump"/>
          </p:cNvPr>
          <p:cNvSpPr/>
          <p:nvPr/>
        </p:nvSpPr>
        <p:spPr>
          <a:xfrm>
            <a:off x="6643800" y="3071880"/>
            <a:ext cx="2000160" cy="9288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ill Sans MT"/>
              </a:rPr>
              <a:t>vstup do encyklopé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is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2136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D</a:t>
            </a: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k-SK" sz="3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D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Zástupný symbol obsahu 2"/>
          <p:cNvSpPr/>
          <p:nvPr/>
        </p:nvSpPr>
        <p:spPr>
          <a:xfrm>
            <a:off x="3929040" y="1357200"/>
            <a:ext cx="2136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dc765"/>
                </a:solidFill>
                <a:uFillTx/>
                <a:latin typeface="Gill Sans MT"/>
                <a:hlinkClick r:id="rId7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dc765"/>
                </a:solidFill>
                <a:uFillTx/>
                <a:latin typeface="Gill Sans MT"/>
                <a:hlinkClick r:id="rId8"/>
              </a:rPr>
              <a:t>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Zástupný symbol obsahu 2"/>
          <p:cNvSpPr/>
          <p:nvPr/>
        </p:nvSpPr>
        <p:spPr>
          <a:xfrm>
            <a:off x="6357960" y="1428840"/>
            <a:ext cx="21366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Šípka doľava 6"/>
          <p:cNvSpPr/>
          <p:nvPr/>
        </p:nvSpPr>
        <p:spPr>
          <a:xfrm>
            <a:off x="6643800" y="5572080"/>
            <a:ext cx="1071360" cy="6429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p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1:49:01Z</dcterms:created>
  <dc:creator>lenovo_ntb</dc:creator>
  <dc:description/>
  <dc:language>en-US</dc:language>
  <cp:lastModifiedBy>Kompik</cp:lastModifiedBy>
  <dcterms:modified xsi:type="dcterms:W3CDTF">2010-06-13T13:13:29Z</dcterms:modified>
  <cp:revision>9</cp:revision>
  <dc:subject/>
  <dc:title> „Amerika od A po Z“</dc:title>
</cp:coreProperties>
</file>