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D03-9515-44D3-90E1-28F71A2B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FBA-CE74-4CE1-B2E4-2B61C72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4765E-55BD-4C9E-B751-ED35658A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31D16-88C8-4AA5-A5F7-855569C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9EF2A-9C3F-489D-AF47-299C519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A60F5-683F-42CD-8D04-13F5B088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928994-1D20-482F-BB1A-12F01D8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431FE-59A7-45B3-ACF1-070C3C81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57B314-E3F4-49E5-8BF5-8092B1F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6A3714-7D52-429A-A5CB-15DB74C6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C9CCB4-7A2C-43E4-8A68-167F1CFA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EE6-BCA6-4FEE-8CAC-54247BA3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D19-42FC-48DE-B24B-51D46BD9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4ECAF-1122-4A50-9AAA-1459C369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33B73-545F-4112-9DE8-266A7DF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56B69-CDF4-486E-9104-D19409F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F9C7C-73DD-4754-8BCF-690B0E8D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3322-0D38-4FF0-8A6D-48FB424C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24AB-CD09-45C2-A5CE-E3645C9C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7227-D215-4226-B6B2-2D1601F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DA2-E2F4-457E-941F-E624FCAA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61D96-8FE1-405F-8F6B-C5FB8BD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79598-89E1-4ED3-B666-79344D8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E9BC1-9A78-4D1E-A1BE-276CB495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9FB6F-133A-47E7-8BAB-798235CE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C0BAE-9C1B-4884-AA1E-8EEA00AE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3F57-DB84-43DF-8EBD-9A388C25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F87C-7745-4140-8952-93604B58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E538-2CC6-4841-B05D-00CE8E7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3317-6B94-4985-80FE-93681AA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D6C1-69E5-4642-A551-6F81FD7F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5DF-EF01-4FE4-A5C3-E7DCD45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DBD6-3841-470E-BE26-D8E3E614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C2561-BDFE-4C48-9AA2-055EBC2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80F8-C974-4AEF-B2B1-CB7BAEB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2B2B-8063-41A0-A067-508DB05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FD9C-EFC5-495C-8A2D-5A8D567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5D2D-DC23-42C7-8FC5-85E5116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853E-B1EF-4089-B2C1-99ADE320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A2218-D3E0-4D01-A8C6-DF874996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A1803-D687-4395-878A-14BCD43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6EA75-A19D-4A5B-A5A8-8A32FBD0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061-24AE-4CF4-99C7-BE021BD6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5D2D5-B5F0-445E-B6AB-D985AF69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3208B-8A49-4109-9CC6-6F8FAA7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CAF7F-D578-49CA-AE36-B041F3E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00AB0-AD01-4BB2-AE51-D814D7D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CDE77-C0B5-4BA9-A583-930CEB6D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7B20D-71B5-4E56-83DA-D90FB61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924AD-1CD9-4845-A45F-28DA66D5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6DDC6-3FE7-4CE9-97F8-980BA705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34BAB-7DD1-4C7B-96D1-FA774CFE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2A71-751C-47BF-A87C-91C68A68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4EE-B66B-4147-9D6E-B06AEFE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1F722-BA8F-455B-864F-AF04A5FD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C274-971A-4AE9-9D9B-008C6F9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A29E-6378-4960-9BBE-B0C74B0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925E-C7FD-4E31-8930-16376553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230A-9DF3-402D-A5D5-C9308885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AC944-BD7C-408F-B374-A2DECFA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F8D52-A051-4365-B8F6-60CD21E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6AC4-F852-4462-BFFB-BA61699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53B03-CC55-42EB-8027-010BD23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F3440-089F-4BD2-84E2-45CA9933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A33-EAA8-4AFF-9D83-1B6B7E9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64F7-F323-49D0-B334-9B65553E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00FA-B395-494D-A4D8-A824B098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EC2FC-6143-4836-BF0F-84AC2BD7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FE8D-79F7-450F-9E85-AA7C1A8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0D1C-4BB4-44EC-A6F1-21EF381C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4387-37AE-4330-8B09-1AB0860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1732-785F-47FF-99F5-6C12954F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1500-B856-492D-A1AF-EC0F190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6D299-EDE1-4CF4-B6FB-0AC3A28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EB14-2CE0-4C4D-81C5-DFF5032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4F0-0119-4375-91B2-B1A0DFE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30C7-F5F6-4BB6-AA0F-3F3FB558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A2F5-8BA0-40E3-8457-FDB81B0F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0A4F-10CF-41AE-B71A-7FB9899C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BDC2-7673-402B-83D5-EDEB1A72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3F92A-642C-446B-875C-2E668803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CBB5-854F-4A70-A632-0FCDB50B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BB768-5DDB-4116-B0D9-600611A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8082-2654-4B8E-A722-2153C61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93A2C-B9E1-4A30-AEB5-8C21B89C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2B06-0FB6-49F6-B377-EC7125FC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5FE-DB73-405B-AE8B-AFB22CA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18666-E385-42CE-B658-B6A0820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0FF1-D062-4ABD-84FA-5ED11CD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083B6-83A0-4090-82A0-8F2BA3C2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D296-29B4-4F3D-8574-2CE8A45E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763F0-545A-4855-884F-86CF4101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68880-786F-4104-ACBD-E083E048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42279-8F6B-4B89-811C-B42F620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247FCD-0245-41C2-B547-F98E021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CCF2A-1E6A-453E-8AD8-913B859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E04C6-6185-4D19-A969-B45EB69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721-A5E4-4F0D-B2AD-36851C5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C0FA9-060D-4788-8B71-CB0D7572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EFA0A-1C4F-4E93-85D6-82244DB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641C9-9AE5-43BC-8D05-ED50CF6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B5265-D4FD-4BE3-8263-6DCD2D9C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9D67C-1342-41C0-9F9D-7D8AF21B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855F3-1A8F-4F86-93B3-2DCDFBB1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DCB5B-B3B0-48EC-AD4C-92475535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E5750-4BA2-4B94-BD6E-AA9E8C5A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05708B-37EA-4E1B-8D9E-A46BF869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869CB1-11D9-4456-ACC4-F4F50FD8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so šikmým zaobleným roh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Obdĺžnik so šikmým zaobleným roh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298-FA93-4C7F-A892-EC275C6493C9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so šikmým zaobleným rohom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Obdĺžnik so šikmým zaobleným rohom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E71D-200B-446B-8B32-F5FF6C13D38C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Obdĺžnik so šikmým zaobleným roh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Obdĺžnik so šikmým zaobleným roh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bdĺžni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5B03-2669-4BBB-91DB-F95BD7882C70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A88-62F5-466A-8089-01C9DF9FEC9E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bdĺžnik so šikmým zaobleným roh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Obdĺžnik so šikmým zaobleným roh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bdĺžni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501-ED46-47E3-B98D-ADE4CADB01DA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bdĺžnik so šikmým zaobleným roh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Obdĺžnik so šikmým zaobleným roh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bdĺžni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bdĺžni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AE73-F70F-4D26-9D66-FB88FE776E8F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Obdĺžnik so šikmým zaobleným roh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Obdĺžnik so šikmým zaobleným roh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Obdĺžni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55C-5F7A-42B2-BFDF-FCE9E610DA0A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ĺžni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F220-EA5D-45B6-8443-07EF358F7428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AE35-BA07-46BF-9F06-E24CE1F62AD6}" type="slidenum">
              <a:rPr b="0" lang="sk-SK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Drakov prieliv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Dalla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Disney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Davisov prieliv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autor: Matej Nemec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Šípka doprava 3"/>
          <p:cNvSpPr/>
          <p:nvPr/>
        </p:nvSpPr>
        <p:spPr>
          <a:xfrm>
            <a:off x="6215040" y="5286240"/>
            <a:ext cx="2357640" cy="1000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Rockwell"/>
              </a:rPr>
              <a:t>späť do regis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Rockwell"/>
              </a:rPr>
              <a:t>Drakov prieliv</a:t>
            </a: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 je najširší a zároveň najhlbší prieliv na Zemi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späť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Rockwell"/>
              </a:rPr>
              <a:t>Dallas</a:t>
            </a: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 je tretie najväčšie mesto v americkom štáte Texas a deviate najväčšie mesto v US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Mesto bolo založené v roku </a:t>
            </a:r>
            <a:r>
              <a:rPr b="0" lang="sk-SK" sz="3200" spc="-1" strike="noStrike" u="sng">
                <a:solidFill>
                  <a:srgbClr val="ffffff"/>
                </a:solidFill>
                <a:uFillTx/>
                <a:latin typeface="Rockwell"/>
              </a:rPr>
              <a:t>1841</a:t>
            </a: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späť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Disneyland Park sa stal najznámejším zábavným parkom a jednou z najnavštevovanejších atrakcií na svet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späť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Rockwell"/>
              </a:rPr>
              <a:t>Davisov prieliv</a:t>
            </a: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 je severným ramenom Labradorského mora.  Prieliv je pomenovaný po anglickom výskumníkovi Johnovi Davisovi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Rockwell"/>
              </a:rPr>
              <a:t>späť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27:17Z</dcterms:created>
  <dc:creator>Admin</dc:creator>
  <dc:description/>
  <dc:language>en-US</dc:language>
  <cp:lastModifiedBy>lenovo_ntb</cp:lastModifiedBy>
  <dcterms:modified xsi:type="dcterms:W3CDTF">2010-06-13T12:43:47Z</dcterms:modified>
  <cp:revision>7</cp:revision>
  <dc:subject/>
  <dc:title>D</dc:title>
</cp:coreProperties>
</file>