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B36-A848-4F28-B296-E467AD9B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1EB-96F8-4427-836E-9854F1BE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2C7-E045-4C34-8135-1E113AFD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479-EB9E-4FDC-92EE-EC2A5D55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3141-6E40-4BE4-ACE4-39A0423A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31CA-E285-4098-8DFF-8C10470B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CE73-47C9-4A85-829A-82C45714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F417-D807-4F5A-AF48-78646765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82F5-8A9B-4EB9-BA77-2DA81BE7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7A68-4C44-459E-89AB-9B64BF38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EE43-CE30-46F3-9147-27B97F3D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60E-C8AD-42DE-A4A9-7E74489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B8EA-08FE-4291-86A8-7CEB304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0D1E-665F-4397-8B86-55BFEE2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638A-3595-4B94-9617-F70662C0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2B4A-0D51-4A39-9498-3EFE620D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FED0-A508-4C1A-9D42-F53CC073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335-76E8-4392-88D8-C5CA4A89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3BC-33F8-4F1E-B9CB-A128BF9C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984-895F-4F01-8B32-BEC06087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6EC-39F3-4ED8-A38E-EE50D93E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053-5A6C-45C3-B7C3-B76ED888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226-D6D5-436F-9CD6-4432E410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5DD-7758-4659-B55D-AD8B5E9E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4907-E8CC-4559-AD17-30CDA16F8257}" type="slidenum">
              <a:rPr b="0" lang="sk-SK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A021-0A3F-4D20-B81D-69013DA2D7D9}" type="slidenum">
              <a:rPr b="0" lang="sk-SK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Arial Black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00"/>
                </a:solidFill>
                <a:latin typeface="Arial Black"/>
              </a:rPr>
              <a:t>Ohňová ze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00"/>
                </a:solidFill>
                <a:latin typeface="Arial Black"/>
              </a:rPr>
              <a:t>Orino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00"/>
                </a:solidFill>
                <a:latin typeface="Arial Black"/>
              </a:rPr>
              <a:t>Oh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utor: Adam Hol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Šípka doprava 5"/>
          <p:cNvSpPr/>
          <p:nvPr/>
        </p:nvSpPr>
        <p:spPr>
          <a:xfrm>
            <a:off x="6500880" y="5572080"/>
            <a:ext cx="2000160" cy="91296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8b17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c00"/>
                </a:solidFill>
                <a:latin typeface="Arial Black"/>
              </a:rPr>
              <a:t>späť do registr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Arial Black"/>
              </a:rPr>
              <a:t>Ohňová ze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Arial Black"/>
              </a:rPr>
              <a:t>Ohňová zem je súostrovie pri južnom cípe Južnej Ameriky. Nachádza sa medzi Drakovým prielivom a Magalhaesovým prielivom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Arial Black"/>
              </a:rPr>
              <a:t>spä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Picture 4" descr="images"/>
          <p:cNvPicPr/>
          <p:nvPr/>
        </p:nvPicPr>
        <p:blipFill>
          <a:blip r:embed="rId1"/>
          <a:stretch/>
        </p:blipFill>
        <p:spPr>
          <a:xfrm>
            <a:off x="5724360" y="3860640"/>
            <a:ext cx="2935440" cy="22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Arial Black"/>
              </a:rPr>
              <a:t>Orinoc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Arial Black"/>
              </a:rPr>
              <a:t>Je to rieka na severe Južnej Ameriky. Pramení v Sierra parime vo Venezuel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Arial Black"/>
              </a:rPr>
              <a:t>späť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Picture 4" descr="images"/>
          <p:cNvPicPr/>
          <p:nvPr/>
        </p:nvPicPr>
        <p:blipFill>
          <a:blip r:embed="rId1"/>
          <a:stretch/>
        </p:blipFill>
        <p:spPr>
          <a:xfrm>
            <a:off x="5508720" y="3789360"/>
            <a:ext cx="36352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Arial Black"/>
              </a:rPr>
              <a:t>Oh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Arial Black"/>
              </a:rPr>
              <a:t>Je štát na stredozápade USA. Má vyše 11 000 000 obyvateľov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Arial Black"/>
              </a:rPr>
              <a:t>spä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4" descr="images"/>
          <p:cNvPicPr/>
          <p:nvPr/>
        </p:nvPicPr>
        <p:blipFill>
          <a:blip r:embed="rId1"/>
          <a:stretch/>
        </p:blipFill>
        <p:spPr>
          <a:xfrm>
            <a:off x="5651640" y="3610080"/>
            <a:ext cx="3492360" cy="23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0:35:12Z</dcterms:created>
  <dc:creator>Žiak</dc:creator>
  <dc:description/>
  <dc:language>en-US</dc:language>
  <cp:lastModifiedBy>lenovo_ntb</cp:lastModifiedBy>
  <dcterms:modified xsi:type="dcterms:W3CDTF">2010-06-13T12:56:57Z</dcterms:modified>
  <cp:revision>5</cp:revision>
  <dc:subject/>
  <dc:title>O</dc:title>
</cp:coreProperties>
</file>