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716-2459-4640-9242-789B74BF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F40-5940-46F2-9CE6-1DA973AB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6D6-4484-4AEA-8A3C-5E3C7B2C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CDC-AE59-4C8F-B29B-FF8F6B74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D562-C5B6-4E2B-983F-E3F3700D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EC76-9E84-4210-A26A-5866863B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8007-3E9F-4A24-AFD7-80C63D12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B07B-C97A-403A-B3B6-A838DFA4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1D7B-8FD6-4AB2-B5AE-4A2F2238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6569-2FE0-4E7C-A379-8C188279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6814-CE62-4EF4-AE1D-B26DF071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CAD-159E-4F5F-9657-6A14CAD6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5471-8FFF-4A35-A878-466B8428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D30A-AACA-40BF-B4E3-BDA5B7D1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2FDE-9A70-48FF-9B5B-B4AF2654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0249-9A3D-4DE7-841F-C89BC9B9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D1B4-B2D9-4A35-B805-C581AE84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BE87A-A9CF-4D7B-9570-24D1D70D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E011-07E1-40E8-8C81-E5E400ED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0DC2-708E-458A-92FF-D9261417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5584-19A0-4B09-9958-867FB8E5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D755-0546-4620-BB69-7D207D0E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E21-09E8-4AE0-AE53-D8FE35FB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9CD82-DF38-4A1E-9E62-7E919028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90D1-B35F-40C7-98AF-4A1C07FC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8644-0373-4268-B19F-6391439E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8BC1-CC20-483C-BC88-7D98541A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FC185-B1AB-4777-9651-F80DA93D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0E69-9CA0-40E5-A12C-4732A6B2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1349-9FC6-4942-8F7D-01811DB0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18583-3638-4863-A348-9EA930F6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F3E4-D7A0-4BC5-877A-2D49975B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3778-8601-4665-BC33-9D40AF69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58E-818F-41F3-B5F2-9F304FFD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9124C-96DC-464D-9B3D-D5A678EB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2DC5D-88FB-4DBF-8D2B-C083BA09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8BD2-76F8-4057-9609-A66C96E8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D6E7D-5621-4A3F-830A-66BE3703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EB59D-D878-4DCB-9E9A-E57DD958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C3EDB-B794-451B-A549-20635EBF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FE0D9-F9B3-4948-99D8-AD3A7FDC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3C0B0-6CA8-4977-8F43-DAF2E7B2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D640F-434D-49A4-9A42-7F801CB4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38322-ADDA-4926-B241-1F4E2883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426-8E34-4B50-A02D-6DF587AC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B48A7-04F9-4318-9D9E-FAF4F0EA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24503-2447-420F-921D-28418A73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D2F94-4047-4096-B3FA-324EFFA5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A71D-9E11-4039-A629-C7B59EFB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FB14-0BD3-49E5-ADC5-020D6755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31F8C-0125-40C1-A421-B3EA11CC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71C69-F6E9-4FAD-B179-E461B0F6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0E21-0982-44EE-A231-747B4283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DF28A-9D4C-4F3A-88DB-651B9734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1B6A0-0E8A-4C4B-888E-FCC2F18B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1FC-9AD3-4106-B330-7F1C9E41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AC63D-115A-4F4F-BE11-39B44E04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4A2-0F96-4C0E-9720-1DD43CF0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20D-797D-4F57-A386-CDB2CEAF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6F9-D56E-4463-AE2C-E600C30D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01CB-EEC5-4F41-A756-EE30E67C871D}" type="slidenum">
              <a:rPr b="0" lang="sk-SK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ĺžnik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Obdĺžnik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ovná spojnica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C13E-E9D7-43E5-AE54-6C5E77BD7DD0}" type="slidenum">
              <a:rPr b="0" lang="sk-SK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F813-0265-4B07-9E92-732A34D5D2BF}" type="slidenum">
              <a:rPr b="0" lang="sk-SK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ĺžni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ĺžni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7601-53E9-4ADD-A4FE-75D7C0106FD8}" type="slidenum">
              <a:rPr b="0" lang="sk-SK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3E3F-673D-41DA-AD74-8DC1E0A16290}" type="slidenum">
              <a:rPr b="0" lang="sk-SK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Nadpis 1" descr=""/>
          <p:cNvPicPr/>
          <p:nvPr/>
        </p:nvPicPr>
        <p:blipFill>
          <a:blip r:embed="rId1"/>
          <a:stretch/>
        </p:blipFill>
        <p:spPr>
          <a:xfrm>
            <a:off x="781200" y="1494000"/>
            <a:ext cx="8057880" cy="1839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785880" y="3286080"/>
            <a:ext cx="7929360" cy="157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ffffff"/>
                </a:solidFill>
                <a:latin typeface="Trebuchet MS"/>
              </a:rPr>
              <a:t>Yellowstonský národný park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ffffff"/>
                </a:solidFill>
                <a:latin typeface="Trebuchet MS"/>
              </a:rPr>
              <a:t>Yosemitský národný park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ffffff"/>
                </a:solidFill>
                <a:latin typeface="Trebuchet MS"/>
              </a:rPr>
              <a:t>Yukon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b0f0"/>
                </a:solidFill>
                <a:latin typeface="Trebuchet MS"/>
              </a:rPr>
              <a:t>Yucatán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b0f0"/>
                </a:solidFill>
                <a:latin typeface="Trebuchet MS"/>
              </a:rPr>
              <a:t>autor: Laura Kordíková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Šípka doprava 3"/>
          <p:cNvSpPr/>
          <p:nvPr/>
        </p:nvSpPr>
        <p:spPr>
          <a:xfrm>
            <a:off x="214200" y="5643720"/>
            <a:ext cx="235764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d0d0d"/>
                </a:solidFill>
                <a:latin typeface="Trebuchet MS"/>
              </a:rPr>
              <a:t>späť do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Nadpis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b0f0"/>
                </a:solidFill>
                <a:latin typeface="Trebuchet MS"/>
              </a:rPr>
              <a:t>Je to najstarší NP na svet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b0f0"/>
                </a:solidFill>
                <a:latin typeface="Trebuchet MS"/>
              </a:rPr>
              <a:t>Bol založený v roku 1872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b0f0"/>
                </a:solidFill>
                <a:latin typeface="Trebuchet MS"/>
              </a:rPr>
              <a:t>Je známi miestami, v ktorých sa na  zemský povrch dostáva horúca voda zo zemského vnútra – Gejzírmi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b0f0"/>
                </a:solidFill>
                <a:latin typeface="Trebuchet MS"/>
              </a:rPr>
              <a:t>späť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2" descr="C:\Users\Admin\Pictures\421268_priroda-usa-yellowstone-filip-kulisev-fotografia-zem-oktober09.jpg"/>
          <p:cNvPicPr/>
          <p:nvPr/>
        </p:nvPicPr>
        <p:blipFill>
          <a:blip r:embed="rId2"/>
          <a:stretch/>
        </p:blipFill>
        <p:spPr>
          <a:xfrm rot="20832600">
            <a:off x="3209760" y="3841560"/>
            <a:ext cx="39913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Nadpis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48068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b0f0"/>
                </a:solidFill>
                <a:latin typeface="Trebuchet MS"/>
              </a:rPr>
              <a:t>Yosemitský národný park</a:t>
            </a:r>
            <a:r>
              <a:rPr b="0" lang="sk-SK" sz="2400" spc="-1" strike="noStrike">
                <a:solidFill>
                  <a:srgbClr val="00b0f0"/>
                </a:solidFill>
                <a:latin typeface="Trebuchet MS"/>
              </a:rPr>
              <a:t> je národný park v Spojených štátoch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b0f0"/>
                </a:solidFill>
                <a:latin typeface="Trebuchet MS"/>
              </a:rPr>
              <a:t>Nachádza sa v okresoch Tuolumne, Mariposa a Madera vo východnej časti strednej Kalifornie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späť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Picture 2" descr="C:\Users\Admin\Pictures\yosemite,-horni-yosemitsky-vodopad-483e727457c06_275x206.jpg"/>
          <p:cNvPicPr/>
          <p:nvPr/>
        </p:nvPicPr>
        <p:blipFill>
          <a:blip r:embed="rId2"/>
          <a:stretch/>
        </p:blipFill>
        <p:spPr>
          <a:xfrm rot="19747200">
            <a:off x="4100400" y="3827520"/>
            <a:ext cx="31813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Nadpis 2" descr=""/>
          <p:cNvPicPr/>
          <p:nvPr/>
        </p:nvPicPr>
        <p:blipFill>
          <a:blip r:embed="rId1"/>
          <a:stretch/>
        </p:blipFill>
        <p:spPr>
          <a:xfrm>
            <a:off x="92160" y="212760"/>
            <a:ext cx="8502480" cy="1292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b0f0"/>
                </a:solidFill>
                <a:latin typeface="Trebuchet MS"/>
              </a:rPr>
              <a:t>Rieka </a:t>
            </a:r>
            <a:r>
              <a:rPr b="1" lang="sk-SK" sz="2600" spc="-1" strike="noStrike">
                <a:solidFill>
                  <a:srgbClr val="00b0f0"/>
                </a:solidFill>
                <a:latin typeface="Trebuchet MS"/>
              </a:rPr>
              <a:t>Yukon</a:t>
            </a:r>
            <a:r>
              <a:rPr b="0" lang="sk-SK" sz="2600" spc="-1" strike="noStrike">
                <a:solidFill>
                  <a:srgbClr val="00b0f0"/>
                </a:solidFill>
                <a:latin typeface="Trebuchet MS"/>
              </a:rPr>
              <a:t> je mohutná severoamerická rieka dlhá 3 185 km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b0f0"/>
                </a:solidFill>
                <a:latin typeface="Trebuchet MS"/>
              </a:rPr>
              <a:t>Pramení a takmer polovica jej toku leží v Kanade, preteká štátom Aljaška v USA a vlieva sa deltou Yukonu do Beringoveho mor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späť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2" descr="C:\Users\Admin\Pictures\yukon_photo.jpg"/>
          <p:cNvPicPr/>
          <p:nvPr/>
        </p:nvPicPr>
        <p:blipFill>
          <a:blip r:embed="rId2"/>
          <a:stretch/>
        </p:blipFill>
        <p:spPr>
          <a:xfrm rot="20054400">
            <a:off x="4506840" y="4233960"/>
            <a:ext cx="31003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Nadpis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b0f0"/>
                </a:solidFill>
                <a:latin typeface="Trebuchet MS"/>
              </a:rPr>
              <a:t>Yucatán je stredoamerický polostrov vybiehajúci medzi Mexický záliv a Karibské mor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b0f0"/>
                </a:solidFill>
                <a:latin typeface="Trebuchet MS"/>
              </a:rPr>
              <a:t>späť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" descr="C:\Users\Admin\Pictures\YucatanMap.jpg"/>
          <p:cNvPicPr/>
          <p:nvPr/>
        </p:nvPicPr>
        <p:blipFill>
          <a:blip r:embed="rId2"/>
          <a:stretch/>
        </p:blipFill>
        <p:spPr>
          <a:xfrm rot="19747200">
            <a:off x="4027320" y="3227400"/>
            <a:ext cx="32990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35:40Z</dcterms:created>
  <dc:creator>Admin</dc:creator>
  <dc:description/>
  <dc:language>en-US</dc:language>
  <cp:lastModifiedBy>lenovo_ntb</cp:lastModifiedBy>
  <dcterms:modified xsi:type="dcterms:W3CDTF">2010-06-13T12:45:24Z</dcterms:modified>
  <cp:revision>7</cp:revision>
  <dc:subject/>
  <dc:title>Y</dc:title>
</cp:coreProperties>
</file>