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833-D3FD-4BB4-99FF-EF9618D1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870-D272-4998-9BC7-869290B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D5373-D92A-4B31-BF95-2CD51C9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C77E8-B922-4943-BD8F-C2389AD9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39183-95FE-416C-A3F0-3D05E62D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C6B64-C18E-4D9C-862B-AA20210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3C4B7-A363-45DC-975F-690AFFF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8BA9D-766C-434E-8024-F47C2FF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07983-C7C0-43BE-B4A4-C48CCA2A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6A6BB-5300-4D9A-8E46-2260B897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BF631-651B-4A13-992C-F659B5BC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F02BA-AF60-4902-9241-DDE1AB70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5B9-E33A-4943-9614-273DD955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32606-2370-4F31-9FFB-23D65AF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4D793-9F7E-407C-A0B8-B73B909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ED2B3-2065-40DB-A031-56B9ACA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ECADD-695C-44D2-8F55-7DE38725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4F11A-AD34-492D-86A4-91F1151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6F09C-AFA2-4E77-9D43-E63A11D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81045-D443-430D-BF1B-108014B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A567B-AA56-41E6-A41B-46551BA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07732-D873-47E3-8B61-FE6E6AF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DD0C4-69FB-429C-9CE7-65FCD154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DD9-6EC7-498B-BB2A-EBE1A699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B865A-D430-49E2-A469-9239A9D1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139D3-1C6B-480C-974B-FAFE06B2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16201-1E5A-4E7E-9D10-D0A5D0B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CAF9-493F-4E6F-9E31-1A2732AE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A713-0936-49D6-B0CF-0BB9A4CC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0C19-239B-4731-AE09-3ECBB7D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40894-630D-4531-8093-9F8C42C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E84FC-895D-4CB3-A697-94D01499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F63F-A097-4E28-AB14-67154EA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BDF2-D9BD-46BC-8B60-62EB6A9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9475-3737-482B-850A-9C8389CA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0BE5-0B48-429F-9542-5E22ADD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4D5E-6494-4626-A9BB-CB341847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A4179-37BC-481B-A94E-B071A801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9AEA5-39C0-4804-BC5E-CCB3F1EC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98BDE-BCDA-4874-B088-2D8C4A7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287E8-9A35-4A32-987B-9068D30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88F15-2C42-409D-A268-71267E9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0078A-ABAD-4823-9ED0-138ACAC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DE179-6697-4100-9473-7FA8166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FEA23-CD8D-4B21-93A3-DBEB474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0B3-9CCE-4B45-A24C-B24E6FB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7A768-5A0D-4F3B-AB2B-7AE6EAF2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3508E-AB20-40C4-879A-98E023C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E30B8-4B17-4C20-925F-09A6C77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44049-BC2E-4E74-A5E3-47CFF7E2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1CE40-D836-409A-B3CC-9FE3E4AA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FF62-A093-4D98-9611-15C2510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52EC-469F-43D9-B039-6E9918B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5A74-33D7-4524-873D-9F26CF1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B182-4843-4C66-8A9A-56F2D3B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608-D79A-448C-96ED-C0D697D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1D2-6CEE-41A7-8A11-D795C055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981-BFB9-4DCA-9B38-D09993CE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9016-E441-40DA-BB37-235C8973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5180-08DB-4C8F-A486-662C1B02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488C-2520-40B8-8F67-E055AC60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0E0-B7F1-411E-823D-98E930A8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BFC9-4D0F-444E-BA2D-614FBC3C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1639-7E67-49FD-9338-C1A1A3A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78B3-1B23-45C2-A8DF-87E15FB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6F54-0D0A-46EC-956C-5171C242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F93A-0F61-422C-8F5F-51C8274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FF4-F28A-46A7-B424-EEA4D15E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C01D-3BF2-45E0-931B-CD6726F6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A0F3-1B84-4E2B-8BA8-692DD7E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AB38-416D-4534-88BD-B7127E7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8BCB-99EF-4BE1-B6E2-6952BD2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BB49-EFDE-4B1F-A563-A9FC7DC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5F99-BB51-490D-A7F0-96BE0AC4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4F31-0382-4547-A1F2-BFF924F7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01C4-A46D-4B77-AB0A-AB7397B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C33A-2B6C-4889-B4FF-EDC8044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4233-6A3F-4B49-AC8D-3B36B43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5BC-7DA8-41F6-8810-5D63D1E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8A74-9088-41A5-99E0-4B60AF5D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8D02-7975-41EA-BB4A-EC6C77D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0B74-A7B6-477C-9FE3-C5D1F618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91D0-CCA1-456A-9FCB-DF3CACE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55DD-730D-415A-BCAD-975C39C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81AD-5194-4637-8D52-03C441D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BA12-9C35-48C9-BB07-8A3BFC91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25CC-AC20-4B4D-942C-F3CB21DC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C399-D9F7-42D5-BB6E-638A9F3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710B-2224-4379-9D67-1542DC2D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5D-7051-4A34-9F88-FFC6110A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0FC9-B7A3-4306-BA5E-CDE46B9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3922-A781-4A61-9356-3E3A216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4D44-8542-4869-B80E-F795B9E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C5F4-7C0B-4CBB-ADEC-0ABFDFB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A9B8-F13C-41A5-8C48-DFDF0D8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7124-6A97-441D-BA81-6998F50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6C44-4822-4C7B-B721-D6E054C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A3A0-C0F9-4B34-9268-A37A8B5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EBE0-BF67-4D70-B685-BA935BFA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B7B6-AA7C-4175-9E7A-C440F73A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C72-4C4C-4C2D-A60D-47EEAA6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1102-F1CD-49B7-910C-14B9C7D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0B6E-8CE6-4607-9B7F-44DE3F2B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3F12-B2F5-44DA-B753-4B55539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BFEE4-D31A-4476-B0AD-850DAFC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D898-BADA-413B-BE4F-E81C020B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3E2B-C953-4565-8902-ABB907A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E1839-092E-4A67-BB60-B30E14F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F7DA6-ECE7-4372-8A72-27C4A5A7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61EA-DA05-4FC3-899F-0FC8EFE1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3039-B509-45AC-81C5-BA8B684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5B0-B2FB-4D91-8F45-69E3EE4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E959-F3AF-4892-A15D-0CF6CAC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8AB70-7A58-49BA-8D8F-2B82088D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48C4-DE0A-4D5C-9A06-5615F31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7629-B15C-4330-9BCE-B49A6B03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FE12-F50C-4436-BEB1-6AD5F0B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1F79-2A3D-4627-A760-09FEF15B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8674-1455-4759-A895-C2FA0C32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4668E-1955-469B-8DD0-8A0511AD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8C39-1882-4702-9F51-9666D219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1E6D-73A5-406F-8129-0ADE43E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6DA-40BC-4777-9B27-D61EF77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AC4F-F3E3-45AA-AFD4-841A66B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BFB66-8527-4011-BF2A-F2036AC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88A4-B4D1-4186-8B93-94EC2207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10AC-BB0A-4E01-A7D1-747AE372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D7D7-A33B-4408-8D68-6A2F8D42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0E72-2B66-4E89-9012-0F938064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9D65-4A5A-4902-AC93-7E87385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3E23-1B43-4F50-B8D5-3019A11B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4E85-369A-4090-AB38-C1B71638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9E40-27C7-4CA9-8D94-6ABE84F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8D8-EF8B-49E9-BBE3-1C93F1F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366A-F084-4B3B-866F-D60B07D7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BA9B8-A26E-4D7C-B62D-AD4773CB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CBB4-BE31-4F8B-94BB-95DEEAE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C3E8D-C8FD-46C8-8680-856F63C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BB754-B714-4FA7-B4E6-5774DD70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78967-34E5-4E63-9720-48DCF2CA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DA69C-1803-435F-AB8D-F0A98DC3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83D30-339F-44EE-913C-63079222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61E90-783C-4559-81D9-1CAFC5A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76DAC-BC87-4FFF-909E-3ED1F4C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EE2-F78D-476A-ABB7-A5F53D80ED18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ovná spojnic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dĺžni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ĺžni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ĺžni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dĺžni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dĺžni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á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á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dĺžni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871-EC1D-486F-8438-9F8327C2D15E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69E8-5605-4A47-81FB-5C3E060A8182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dĺžni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dĺžni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dĺžni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ovná spojnic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á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á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E34B-4FE3-4DE7-A18A-425AA7FB3729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dĺžni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dĺžni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ĺžni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vná spojnic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ĺžni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á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567-4F55-4DA1-96AC-173B6AE57CFC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BFA5-F1D6-4D1F-B33F-65722445A4A8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ĺžni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ĺžni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ĺžni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á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á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6ED0-AD5C-415E-92DE-CB8F7E7ECE75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vná spojnic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E89-244C-46F9-AB03-E44954FAD1F4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vná spojnic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dĺžni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dĺžni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ĺžni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ĺžni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á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á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680-ED88-4A17-B1B8-AC1CD50F67EC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ĺžni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ĺžni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ĺžni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ĺžni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ĺžni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dĺžni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vná spojnic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F83-E81E-4005-8EFC-AEBCE69B6A0B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ĺžni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ĺžni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dĺžni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dĺžni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dĺžni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1C4-E2D1-4C2F-A74F-17F5870FD867}" type="slidenum">
              <a:rPr b="0" lang="sk-SK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ĺžni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dĺžni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dĺžni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ĺžni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dĺžni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dĺžni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ĺžni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ovná spojnic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á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á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dĺžni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0B84-39BD-4C67-AED3-0610421316AD}" type="slidenum">
              <a:rPr b="0" lang="sk-SK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Amerika%20od%20A%20po%20Z.pp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a3d6"/>
                </a:solidFill>
                <a:uFillTx/>
                <a:latin typeface="Georgia"/>
              </a:rPr>
              <a:t>GRÓNSK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a3d6"/>
                </a:solidFill>
                <a:uFillTx/>
                <a:latin typeface="Georgia"/>
              </a:rPr>
              <a:t>GALAPÁ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646b86"/>
                </a:solidFill>
                <a:latin typeface="Georgia"/>
              </a:rPr>
              <a:t>AUTOR: PATRIK ZMITK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200" spc="-1" strike="noStrike">
                <a:solidFill>
                  <a:srgbClr val="d16349"/>
                </a:solidFill>
                <a:latin typeface="Georgia"/>
              </a:rPr>
              <a:t>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Šípka doprava 3">
            <a:hlinkClick r:id="rId1"/>
          </p:cNvPr>
          <p:cNvSpPr/>
          <p:nvPr/>
        </p:nvSpPr>
        <p:spPr>
          <a:xfrm>
            <a:off x="7143840" y="5072040"/>
            <a:ext cx="1285920" cy="10000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eorgia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Grónsk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797256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eorgia"/>
              </a:rPr>
              <a:t>Grónsko je najväčší ľadový ostrov na svete. Grónsko sa nachádza pri Severnej Amerik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a3d6"/>
                </a:solidFill>
                <a:uFillTx/>
                <a:latin typeface="Georgia"/>
              </a:rPr>
              <a:t>späť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4" descr="http://www.velehory.cz/a_image/745"/>
          <p:cNvPicPr/>
          <p:nvPr/>
        </p:nvPicPr>
        <p:blipFill>
          <a:blip r:embed="rId1"/>
          <a:stretch/>
        </p:blipFill>
        <p:spPr>
          <a:xfrm>
            <a:off x="857160" y="4500720"/>
            <a:ext cx="7572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7b9899"/>
                </a:solidFill>
                <a:latin typeface="Georgia"/>
              </a:rPr>
              <a:t>Galapá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Galapágy</a:t>
            </a:r>
            <a:r>
              <a:rPr b="0" lang="sk-SK" sz="2000" spc="-1" strike="noStrike">
                <a:solidFill>
                  <a:srgbClr val="000000"/>
                </a:solidFill>
                <a:latin typeface="Georgia"/>
              </a:rPr>
              <a:t> alebo najmä staršie </a:t>
            </a:r>
            <a:r>
              <a:rPr b="1" lang="sk-SK" sz="2000" spc="-1" strike="noStrike">
                <a:solidFill>
                  <a:srgbClr val="000000"/>
                </a:solidFill>
                <a:latin typeface="Georgia"/>
              </a:rPr>
              <a:t>Korytnačie ostrovy</a:t>
            </a:r>
            <a:r>
              <a:rPr b="0" lang="sk-SK" sz="20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eorgia"/>
              </a:rPr>
              <a:t>Galapágy ležia uprostred Tichého oceánu, tisíc kilometrov od ekvádorského pobrežia.Sú známe zvláštnymi druhmi zvierat, ktoré na ostrovoch žijú, napríklad prehistoricky vyzerajucími jaštermi a obrími suchozemskými korytnačkami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a3d6"/>
                </a:solidFill>
                <a:uFillTx/>
                <a:latin typeface="Georgia"/>
              </a:rPr>
              <a:t>späť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http://www.quido.cz/priroda/obrazky/galapagy_7_v.jpg"/>
          <p:cNvPicPr/>
          <p:nvPr/>
        </p:nvPicPr>
        <p:blipFill>
          <a:blip r:embed="rId1"/>
          <a:stretch/>
        </p:blipFill>
        <p:spPr>
          <a:xfrm>
            <a:off x="642960" y="4857840"/>
            <a:ext cx="74293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2:47:41Z</dcterms:created>
  <dc:creator>lenovo_ntb</dc:creator>
  <dc:description/>
  <dc:language>en-US</dc:language>
  <cp:lastModifiedBy>lenovo_ntb</cp:lastModifiedBy>
  <dcterms:modified xsi:type="dcterms:W3CDTF">2010-06-13T12:50:43Z</dcterms:modified>
  <cp:revision>3</cp:revision>
  <dc:subject/>
  <dc:title>G</dc:title>
</cp:coreProperties>
</file>