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5E8-5571-4B73-B217-C6560A6D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357-5E77-40F5-BC83-2559D156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104-0A4B-4400-A6BB-C3C7BA43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880-7BD2-408F-86B8-54EBE234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BCE6-162E-4B00-B2A7-96F4EEC7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4718-DB20-438F-B328-43E1177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2B4C-F12F-48E6-BEBA-543D549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DB0-88B7-427F-9F5B-D8C750B6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2486-DFBC-4FF1-8CCB-B6AF18B6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25C1-A908-4418-BDE2-99BE78A8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A66-AA88-42AE-B30E-F6CBA82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F47-96CA-4DD5-B6FA-20FA1DA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C2D-ABBE-41E6-A0EE-60D2D3F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365C-7749-4C93-8401-8A18153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EF23-E3D3-4DF4-A6CD-A533C94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6850-3AB7-45D1-8EEB-3DC55268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1FC3-56BA-4A65-A66E-1B965523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A498-8370-409D-9021-1B2B9A5A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8479-8CDB-467D-91BE-91E2BBCF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B4B1-78D8-413E-B01B-E6F355A0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9AE0-F77E-4759-90BE-159993A2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E6CE-3263-4A02-A37C-72EA9348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63F-D8E0-4FCE-9242-C9E18F92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7E45-3B23-4070-AA94-405A684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0239-1586-4885-8C88-0C86A5B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3673-E717-4149-9D4C-FBF0909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DF75-9C4D-4364-B314-A51588F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25D8-5CC6-4726-8F25-620E603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7177-D078-4BB2-907C-B95F9841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556B-5C47-41BF-AAAA-A072BFCD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9E75-B55A-4B17-B95F-F605D429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DF70-C11B-403E-8425-B162312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C103-7920-4052-A458-A978F606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8B8-F207-471E-90E3-2D583AA4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351C1-8FED-4836-ACCA-FD96D437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CB7E-48D4-4F72-BB32-19AAF796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8E81-9510-4AAE-89B2-EBA315A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5BD7-4EA9-4227-8B38-B198B82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35D5-CA78-4533-9929-FA6278C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BB83-9157-4E0E-B827-642A500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7EEB1-02DB-400D-91D9-4EA5405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4DEA-C069-4990-A77F-C8FD9CCB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98EE-85E5-4C85-9FD2-9A20809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21D5-AAC3-46F5-ADC1-0F0F6A1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B40-3AF4-4147-AFE2-F6F44B1A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75B6-FA7D-4A47-90D9-BD52835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4FDC-AA42-45C3-8FFF-C2A0A1D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2E77-FFBA-4B09-A910-D83E2DD3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946AF-A6C4-4E0B-87E4-DB15D8B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F4AD-B9FD-4E0A-865C-B2DCF7CE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8B80-56C5-4436-9242-CD8D640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A96F2-71CD-48B4-8619-FA49BC64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79FA-DBAA-453C-8FAD-6A40DA6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64EE-6481-4711-8F80-257083D2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B816-74A9-41EA-B8B0-50DF80F0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345-7DFE-49BF-B755-50199BF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43E1-3CA8-4310-BA9F-84529B44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623-F613-4654-8CB0-9A70492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885-8DF0-4970-9B04-80D02C2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210-2340-422E-A8E5-F3568C8F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ĺž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B8AB-70F3-416C-A698-ABFBBB418261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ĺž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ĺžni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ĺžni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ĺžnik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ĺžnik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9F4-46E6-4EB3-9330-E448D9EE0A48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ĺž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ĺžnik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Zaoblený obdĺžnik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ĺžni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ĺžnik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ĺžnik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4102-525F-4BD8-B584-0831402215F4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ĺž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ĺž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ĺž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ĺžni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9055-4585-4621-B9BF-AA41D918C771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ĺž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ĺž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ĺžni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ĺžni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ĺžni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9029-2D01-45E9-89B4-9C4BC70F7273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hyperlink" Target="file:///Amerika%20od%20A%20po%20Z.ppt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k.wikipedia.org/wiki/Prieplav" TargetMode="External"/><Relationship Id="rId2" Type="http://schemas.openxmlformats.org/officeDocument/2006/relationships/hyperlink" Target="http://sk.wikipedia.org/w/index.php?title=Panamsk&#225;_&#353;ija&amp;action=edit&amp;redlink=1" TargetMode="External"/><Relationship Id="rId3" Type="http://schemas.openxmlformats.org/officeDocument/2006/relationships/hyperlink" Target="http://sk.wikipedia.org/wiki/Panama_(&#353;t&#225;t)" TargetMode="External"/><Relationship Id="rId4" Type="http://schemas.openxmlformats.org/officeDocument/2006/relationships/hyperlink" Target="http://sk.wikipedia.org/wiki/Atlantick&#253;_oce&#225;n" TargetMode="External"/><Relationship Id="rId5" Type="http://schemas.openxmlformats.org/officeDocument/2006/relationships/hyperlink" Target="http://sk.wikipedia.org/wiki/Tich&#253;_oce&#225;n" TargetMode="External"/><Relationship Id="rId6" Type="http://schemas.openxmlformats.org/officeDocument/2006/relationships/hyperlink" Target="http://sk.wikipedia.org/wiki/Karibsk&#233;_more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cc9900"/>
                </a:solidFill>
                <a:uFillTx/>
                <a:latin typeface="Perpetua"/>
                <a:hlinkClick r:id="rId1" action="ppaction://hlinksldjump"/>
              </a:rPr>
              <a:t>Panamský prieplav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cc9900"/>
                </a:solidFill>
                <a:uFillTx/>
                <a:latin typeface="Perpetua"/>
                <a:hlinkClick r:id="rId2" action="ppaction://hlinksldjump"/>
              </a:rPr>
              <a:t>Préri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cc9900"/>
                </a:solidFill>
                <a:uFillTx/>
                <a:latin typeface="Perpetua"/>
                <a:hlinkClick r:id="rId3" action="ppaction://hlinksldjump"/>
              </a:rPr>
              <a:t>Pamp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96464"/>
                </a:solidFill>
                <a:latin typeface="Perpetua"/>
              </a:rPr>
              <a:t>autor: Patrik Zmitko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Franklin Gothic Book"/>
              </a:rPr>
              <a:t>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Šípka doprava 3">
            <a:hlinkClick r:id="rId4"/>
          </p:cNvPr>
          <p:cNvSpPr/>
          <p:nvPr/>
        </p:nvSpPr>
        <p:spPr>
          <a:xfrm>
            <a:off x="6500880" y="5572080"/>
            <a:ext cx="2000160" cy="91296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Perpetua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696464"/>
                </a:solidFill>
                <a:latin typeface="Franklin Gothic Book"/>
              </a:rPr>
              <a:t>Panamský priepla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Perpetua"/>
              </a:rPr>
              <a:t>Panamský prieplav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 77 kilometrov dlhý </a:t>
            </a:r>
            <a:r>
              <a:rPr b="0" lang="sk-SK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prieplav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 prechádzajúci </a:t>
            </a:r>
            <a:r>
              <a:rPr b="0" lang="sk-SK" sz="20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Panamskou šijou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 v </a:t>
            </a:r>
            <a:r>
              <a:rPr b="0" lang="sk-SK" sz="2000" spc="-1" strike="noStrike" u="sng">
                <a:solidFill>
                  <a:srgbClr val="cc9900"/>
                </a:solidFill>
                <a:uFillTx/>
                <a:latin typeface="Perpetua"/>
                <a:hlinkClick r:id="rId3"/>
              </a:rPr>
              <a:t>Paname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, spájajúci </a:t>
            </a:r>
            <a:r>
              <a:rPr b="0" lang="sk-SK" sz="2000" spc="-1" strike="noStrike" u="sng">
                <a:solidFill>
                  <a:srgbClr val="cc9900"/>
                </a:solidFill>
                <a:uFillTx/>
                <a:latin typeface="Perpetua"/>
                <a:hlinkClick r:id="rId4"/>
              </a:rPr>
              <a:t>Atlantický oceán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 a </a:t>
            </a:r>
            <a:r>
              <a:rPr b="0" lang="sk-SK" sz="2000" spc="-1" strike="noStrike" u="sng">
                <a:solidFill>
                  <a:srgbClr val="cc9900"/>
                </a:solidFill>
                <a:uFillTx/>
                <a:latin typeface="Perpetua"/>
                <a:hlinkClick r:id="rId5"/>
              </a:rPr>
              <a:t>Tichý oceán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 (cez </a:t>
            </a:r>
            <a:r>
              <a:rPr b="0" lang="sk-SK" sz="2000" spc="-1" strike="noStrike" u="sng">
                <a:solidFill>
                  <a:srgbClr val="cc9900"/>
                </a:solidFill>
                <a:uFillTx/>
                <a:latin typeface="Perpetua"/>
                <a:hlinkClick r:id="rId6"/>
              </a:rPr>
              <a:t>Karibské more</a:t>
            </a: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Perpetua"/>
              </a:rPr>
              <a:t>späť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4" descr="http://www.sme.sk/cdata/3467503/prieplav.jpg"/>
          <p:cNvPicPr/>
          <p:nvPr/>
        </p:nvPicPr>
        <p:blipFill>
          <a:blip r:embed="rId7"/>
          <a:stretch/>
        </p:blipFill>
        <p:spPr>
          <a:xfrm>
            <a:off x="1000080" y="4448160"/>
            <a:ext cx="65008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696464"/>
                </a:solidFill>
                <a:latin typeface="Franklin Gothic Book"/>
              </a:rPr>
              <a:t>Prér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Perpetua"/>
              </a:rPr>
              <a:t>Veľké prérie</a:t>
            </a:r>
            <a:r>
              <a:rPr b="0" lang="sk-SK" sz="1800" spc="-1" strike="noStrike">
                <a:solidFill>
                  <a:srgbClr val="000000"/>
                </a:solidFill>
                <a:latin typeface="Perpetua"/>
              </a:rPr>
              <a:t> je oblasť v USA a v Kanade medzi Skalnatými vrchmi a riekou Mississippi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Perpetua"/>
              </a:rPr>
              <a:t>späť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2" descr="http://www.fotoaparat.cz/images/0067/006718.jpg"/>
          <p:cNvPicPr/>
          <p:nvPr/>
        </p:nvPicPr>
        <p:blipFill>
          <a:blip r:embed="rId1"/>
          <a:stretch/>
        </p:blipFill>
        <p:spPr>
          <a:xfrm>
            <a:off x="1785960" y="3000240"/>
            <a:ext cx="52862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696464"/>
                </a:solidFill>
                <a:latin typeface="Franklin Gothic Book"/>
              </a:rPr>
              <a:t>Pamp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Pampy sú stepi v Južnej Amer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http://www.people.cz/travel/articles_photo/11657.jpg"/>
          <p:cNvPicPr/>
          <p:nvPr/>
        </p:nvPicPr>
        <p:blipFill>
          <a:blip r:embed="rId1"/>
          <a:stretch/>
        </p:blipFill>
        <p:spPr>
          <a:xfrm>
            <a:off x="785880" y="3571920"/>
            <a:ext cx="7619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4:07Z</dcterms:created>
  <dc:creator>Admin</dc:creator>
  <dc:description/>
  <dc:language>en-US</dc:language>
  <cp:lastModifiedBy>lenovo_ntb</cp:lastModifiedBy>
  <dcterms:modified xsi:type="dcterms:W3CDTF">2010-06-13T12:53:06Z</dcterms:modified>
  <cp:revision>14</cp:revision>
  <dc:subject/>
  <dc:title>G</dc:title>
</cp:coreProperties>
</file>