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228-063A-49AD-9FC0-BE2AA66E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8AA-EDA9-4C12-8814-2D09ED18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2D8-0622-46C1-8C6F-DF4739CF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7EC-517E-4D01-8557-E898546F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9C09-AE08-4D77-B03F-D1E541F4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3CA-0C1E-4049-B2B9-6CC49BA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734-9EDA-4EF8-9462-E88DC15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01F-54A1-453E-BE8D-68950C7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641B-5F44-401A-85A7-90881C0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5787-865C-4FE9-A256-307CFEF9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EB1E-24F0-418A-AA26-4AB1DC2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940-E518-44E4-9812-134C16C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28C-8D52-4E54-B9BC-042DFFE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58A-5E75-4A79-8513-5699EF4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D10B-1D46-4D26-9526-EC30FE4F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1E0-A511-4135-B52B-8CEC231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6902-0DF4-400B-A470-24686016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785E-E1E4-43BB-9C85-874AB7A7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DC79-FC16-4576-BBA6-D0FC280B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5B98-8399-47C6-A327-28194EBB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88B2-C018-492D-923F-576D66A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63A8-C0E5-471C-97EE-748238E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E9D-F447-4E0F-ACA0-EE9B54B9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A837-F605-4D5B-BFF4-98E7D63A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7A80-D477-4358-BEB7-DEB8672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64F5-BD99-41C5-8F03-6FB72CD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F280-AF65-4E86-8827-43B04FB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AE5B-5B8F-44FC-B04A-9B955D3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3718-CE18-4E70-83D8-3FD328B4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574-C318-4FA8-AA67-0A358A8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19B09-E009-49E8-8821-ADDFE138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2CC0-CCE2-4EF4-86D5-62919CAC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85FF-1D0E-4ACA-9940-3B2BF871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070-79B6-439C-8C96-4E7035F7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F46C-4609-4FE5-8FD2-474231D2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C0DC-D5D9-438D-9603-7A7E18A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F81E5-12DD-4F03-86DD-CDBE1D4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C2AD-056B-44EB-9CE4-605136F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13A6-A397-478E-81A2-0F263CBE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31C5-7A61-4E2F-B634-5B1ECCB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C6DF-3D53-41CA-8FBB-F4F9C84F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868F-20F5-415D-9267-981FA976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6B91-8267-4FEA-A60F-52F609BE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0BFA2-B9CC-4BF9-899D-33C0D0C2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C5-10FE-4D6B-8F02-5B10CE8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FE41-B832-437C-B9A5-11500EF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7FF4-A63B-4834-B496-64E28AC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5E14-FEB9-49E6-A6FC-5AF4F48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D1B5-B62B-479B-922E-1A79458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986D-4510-43D6-80A8-8141ACB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D05A-E670-49C0-9915-E0ABB9D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FC42-298E-4585-8A79-D5BC416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8D05-1F64-4C06-BA8B-C26996D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FA96-BCC8-4753-911B-D442C755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F374-3E7E-4139-A37A-0DC7C3E6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972-3175-46BD-8B0F-27FE66A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42A6-9BFB-47D2-96F8-B24E9285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2443-1515-46DE-8BAE-05DDB91D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02DF-CCFD-4517-AFFA-14CE9E9D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F1CCE-9078-4CF5-A5EB-45551E3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612E7-0323-42D2-95B1-E01D8491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D55EC-C3EB-448C-99BD-FA23AAD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80EF-9E19-4CE1-A78B-1E1F7D50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DBAE-078E-446F-97BB-805E071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E1C3B-465F-4E3F-9CBA-6DAC71B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AC27-86CD-4E4A-8BC2-9CB8695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D56-30D0-4700-909F-8CB7F3A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A7A1-C84A-4FCA-89E8-96D1FA13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D552-04CF-475B-AF88-43D152B1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09A3-19C1-48C8-A1EB-0B115F0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7F5BE-70EF-4A4E-AAE2-9D6DA0A1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19F3-0CAA-4C76-AB94-266158BD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7CA8-07FF-4351-AF2E-88835227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50CF-BD7E-440E-98A3-3ECCE13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09BA-6E0E-4FFD-AD61-AC4028D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6E8C-334D-4F39-883A-1D9A74D8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93344-820C-4D0A-AF4D-73E4622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C2B-FB7A-4D32-A34A-42E3E817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B5DB-AE05-40BE-AE09-A7B9B82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811B-E88E-480B-AAFA-9A447FF9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DA60-3B61-45FF-83FA-706BE431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A7B9F-3A36-474F-968E-73D2EBB5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CA4B-9EA7-47F5-B91F-DB0A27D6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DE1-2DA9-48A7-B484-250DBABC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uhlý trojuho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vná spojnic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ovná spojnic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B1C-2128-48FE-9BA7-0F6067318972}" type="slidenum">
              <a:rPr b="0" lang="sk-SK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uhlý trojuho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vná spojnic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vná spojnic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ovnoramenný trojuho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795-E49D-4F43-9803-7688D0557247}" type="slidenum">
              <a:rPr b="0" lang="sk-SK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uhlý trojuho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vná spojnica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vná spojnica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CF8B-5AC9-4829-9CE2-7AFE26C2A1BE}" type="slidenum">
              <a:rPr b="0" lang="sk-SK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uhlý trojuho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vnoramenný trojuho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vná spojnica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vná spojnica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F32-BAAF-43E0-AA92-E012379FA5DD}" type="slidenum">
              <a:rPr b="0" lang="sk-SK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3758-7D10-41A3-B94E-2C9390E6C209}" type="slidenum">
              <a:rPr b="0" lang="sk-SK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FD68-9FCF-435B-8424-9E4BD84785CD}" type="slidenum">
              <a:rPr b="0" lang="sk-SK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1F8B-7119-4701-B9AC-72F7F3A6595E}" type="slidenum">
              <a:rPr b="0" lang="sk-SK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Amerika%20od%20A%20po%20Z.ppt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k.wikipedia.org/wiki/Ju&#382;n&#225;_Amerika" TargetMode="External"/><Relationship Id="rId3" Type="http://schemas.openxmlformats.org/officeDocument/2006/relationships/hyperlink" Target="http://sk.wikipedia.org/wiki/Ju&#382;n&#225;_Amerika" TargetMode="External"/><Relationship Id="rId4" Type="http://schemas.openxmlformats.org/officeDocument/2006/relationships/hyperlink" Target="http://sk.wikipedia.org/wiki/Franc&#250;zska_Guyana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Nadpis 1" descr=""/>
          <p:cNvPicPr/>
          <p:nvPr/>
        </p:nvPicPr>
        <p:blipFill>
          <a:blip r:embed="rId1"/>
          <a:stretch/>
        </p:blipFill>
        <p:spPr>
          <a:xfrm>
            <a:off x="2395440" y="96840"/>
            <a:ext cx="6645240" cy="2109960"/>
          </a:xfrm>
          <a:prstGeom prst="rect">
            <a:avLst/>
          </a:prstGeom>
          <a:ln w="0">
            <a:noFill/>
          </a:ln>
        </p:spPr>
      </p:pic>
      <p:pic>
        <p:nvPicPr>
          <p:cNvPr id="302" name="Podnadpis 3" descr=""/>
          <p:cNvPicPr/>
          <p:nvPr/>
        </p:nvPicPr>
        <p:blipFill>
          <a:blip r:embed="rId2"/>
          <a:stretch/>
        </p:blipFill>
        <p:spPr>
          <a:xfrm>
            <a:off x="566640" y="2200320"/>
            <a:ext cx="8175600" cy="1841400"/>
          </a:xfrm>
          <a:prstGeom prst="rect">
            <a:avLst/>
          </a:prstGeom>
          <a:ln w="0">
            <a:noFill/>
          </a:ln>
        </p:spPr>
      </p:pic>
      <p:sp>
        <p:nvSpPr>
          <p:cNvPr id="303" name="BlokTextu 4"/>
          <p:cNvSpPr/>
          <p:nvPr/>
        </p:nvSpPr>
        <p:spPr>
          <a:xfrm>
            <a:off x="798120" y="55008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entury Gothic"/>
              </a:rPr>
              <a:t>Autor: Alexandra Matu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Šípka doprava 5">
            <a:hlinkClick r:id="rId3"/>
          </p:cNvPr>
          <p:cNvSpPr/>
          <p:nvPr/>
        </p:nvSpPr>
        <p:spPr>
          <a:xfrm>
            <a:off x="6000840" y="5429160"/>
            <a:ext cx="1500120" cy="1000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entury Gothic"/>
              </a:rPr>
              <a:t>späť do regis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je najväčší a najľudnatejší štát v </a:t>
            </a:r>
            <a:r>
              <a:rPr b="0" lang="sk-SK" sz="28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Južnej </a:t>
            </a:r>
            <a:r>
              <a:rPr b="0" lang="sk-SK" sz="28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Amerike</a:t>
            </a:r>
            <a:r>
              <a:rPr b="0" lang="sk-SK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entury Gothic"/>
              </a:rPr>
              <a:t>Na severe susedí s </a:t>
            </a:r>
            <a:r>
              <a:rPr b="0" lang="pt-BR" sz="28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Francúzskou </a:t>
            </a:r>
            <a:r>
              <a:rPr b="0" lang="pt-BR" sz="2800" spc="-1" strike="noStrike">
                <a:solidFill>
                  <a:srgbClr val="d2d2d2"/>
                </a:solidFill>
                <a:latin typeface="Century Gothic"/>
              </a:rPr>
              <a:t>Guyanou, Venezuelou a </a:t>
            </a:r>
            <a:r>
              <a:rPr b="0" lang="pt-BR" sz="2800" spc="-1" strike="noStrike">
                <a:solidFill>
                  <a:srgbClr val="e4e4e4"/>
                </a:solidFill>
                <a:latin typeface="Century Gothic"/>
              </a:rPr>
              <a:t>Kolumbio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4e4e4"/>
                </a:solidFill>
                <a:latin typeface="Century Gothic"/>
              </a:rPr>
              <a:t>je to jediný štát v južnej Amerike, kde sa hovorí po portugalsk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4e4e4"/>
                </a:solidFill>
                <a:latin typeface="Century Gothic"/>
              </a:rPr>
              <a:t>hlavné mesto je Brasíli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2" descr="http://fotogaleria.lastminute.sk/data/Foto/506635/1024/Brazilie-Rio-De-Janeiro-1447.jpg"/>
          <p:cNvPicPr/>
          <p:nvPr/>
        </p:nvPicPr>
        <p:blipFill>
          <a:blip r:embed="rId5"/>
          <a:stretch/>
        </p:blipFill>
        <p:spPr>
          <a:xfrm rot="20739000">
            <a:off x="5354640" y="4244760"/>
            <a:ext cx="3571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je prieliv oddeľujúci Ameriku od Áz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v dávnej minulosti bol súšou, kadiaľ sa pravdepodobne dostali potomkovia Indiánov z Ázie na americký svedtadi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Picture 2" descr="Zobraziť obrázok v plnej veľkosti"/>
          <p:cNvPicPr/>
          <p:nvPr/>
        </p:nvPicPr>
        <p:blipFill>
          <a:blip r:embed="rId2"/>
          <a:stretch/>
        </p:blipFill>
        <p:spPr>
          <a:xfrm rot="1459800">
            <a:off x="6433920" y="4425480"/>
            <a:ext cx="18079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Nadpis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Century Gothic"/>
              </a:rPr>
              <a:t>Beringovo more</a:t>
            </a: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 je s rozlohou 2 304 000 km</a:t>
            </a:r>
            <a:r>
              <a:rPr b="0" lang="sk-SK" sz="28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 a priemernou hĺbkou 1 598 m je najrozsiahlejším  morom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Beringovo more sa nachádza v TICHOM  OCEÁNE 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entury Gothic"/>
              </a:rPr>
              <a:t>späť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C:\Users\Admin\Pictures\180px-Bering_Sea_Location.gif"/>
          <p:cNvPicPr/>
          <p:nvPr/>
        </p:nvPicPr>
        <p:blipFill>
          <a:blip r:embed="rId2"/>
          <a:stretch/>
        </p:blipFill>
        <p:spPr>
          <a:xfrm rot="20219400">
            <a:off x="4997520" y="4357800"/>
            <a:ext cx="32781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3:04Z</dcterms:created>
  <dc:creator>Admin</dc:creator>
  <dc:description/>
  <dc:language>en-US</dc:language>
  <cp:lastModifiedBy>lenovo_ntb</cp:lastModifiedBy>
  <dcterms:modified xsi:type="dcterms:W3CDTF">2010-06-13T13:01:48Z</dcterms:modified>
  <cp:revision>10</cp:revision>
  <dc:subject/>
  <dc:title>B</dc:title>
</cp:coreProperties>
</file>