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9E6-BB30-4A72-A513-21FAD474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3688-299D-44DE-BF3D-76F45B08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A067-967D-4793-9BDF-67B25A1C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288-07FC-48ED-A9DB-6F129EEC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4AAB-BAE3-4E94-90BB-0B099C33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7FBB-AF3A-4521-AC90-48BB5B60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DDAE-FCA5-4940-8EB2-57127C0A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5542-96F3-4D3D-B811-47645562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88A5-4302-4E98-B071-20D8CCC2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2016-1594-4C4A-8B23-8F561F93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F82E-3308-415D-871A-3E353E16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C6F-C794-4331-9AD4-CCDB9584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9B09-55DC-4A34-90AD-C44FF146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796F-94D2-4A90-BF14-48BAF20C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25E3-F1BF-4D62-A097-890EA934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1FAB-F126-47D5-B333-15D3D7C2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518C-5E3E-41CB-8585-2DB85A54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C8515-459E-40D8-9477-83C119E0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57809-7806-4EF8-9611-86FDF39C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47681-F3DE-4627-AFFE-4FCE7D6C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7EEF0-271C-45BC-8F52-E94C4425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620ED-76B0-409E-B2C3-99F9341D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A70-F10E-4D69-8AD2-3FBD7F01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8D890-0364-498B-8B1C-A3348BDF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6740D-4E86-4DC4-A127-0595BB42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91E22-E1FC-402E-90BA-B13EBED1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21F7A-9823-4817-AA90-DDAB54D0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9FC20-C03A-4A3E-8E72-3FBBA568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7FE9-1BF3-4029-9036-62D42A5A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885CC-BF46-4244-9EC3-0E38B864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7FFD1-66B4-48EC-97DE-58917256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6BCD6-27B0-47CF-8C29-D4D79BA5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5F97A-F31C-42BB-ADFB-1C9C97B8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0EF-D26A-4581-846A-61130401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350BF-86D2-4094-9BAA-517D2431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D8838-276E-4EF0-8788-E0BEA1ED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3A1C2-7EAA-4F0C-AE99-4086CB04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31886-EFBC-4EAF-BD4E-4FDFCDFA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B781C-CDF2-4A34-A89A-2313AA96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B7B84-87A2-4C80-B47A-DB32129B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7F95A-C7A5-403C-9A56-46E3AB3A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DA407-0D0C-4907-9274-8058D5DE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CB1DD-A865-417E-88AC-0B8BFD29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D88A9-8944-49FA-A0E8-8CB30A87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8DC-0C16-47F7-AD54-9C4A9AF5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ABBEB-ED4C-4AE0-8878-9D72CBE4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C522F-DE44-4235-87AD-897B64F6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1CC1F-53A6-4D1A-B1F7-2E502A40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0394F-0E35-450D-97FE-6E1D3D04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6114B-8251-40EF-B5EB-BB0DF487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09D88-338A-457B-B28F-D2599932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54C6D-E39A-4D50-AF59-59AB7B63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4F036-BF3E-4286-8F0F-CEFA4F85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8237B-0F96-44CB-8F54-70DCF59A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74D72-9E28-4D23-82A4-28F5E8BC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6CFC-872D-4BDE-B665-E3398722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3BD48-0359-4E96-B6C7-8742A63C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3F9C5-4276-472A-A098-7A9AC628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4A06E-1602-45F6-87AD-3F4F37F6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FF3DB-07A3-445D-BFB1-917CDF62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CF2C4-B76E-4826-BE7A-71AE656E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07911-90F1-4091-B95F-98E914E9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10915-D420-45F7-91A3-ED8B4435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04E76-0D4B-426B-A090-D1263D82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2AFFF-CB1B-49B3-9ABD-F123120C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46E40-7A2F-4FBA-BFFB-745FE954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505-A9E9-457F-B88A-77349D71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EE402-AD70-4322-8B3D-2F8F6EDD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53609-B2BE-45F6-BF5B-96B06C9B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C922C-D499-493E-8BCF-EDE689EF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60D78-6183-46FA-B907-4FCE30BF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7CDC8-CD86-495F-9F93-87229409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29C15-0D4C-4BFD-8AC5-773CCBCB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1DDFF-8DDF-4BA6-A6FA-0128E7E0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EC35F-0050-4CEC-B17F-6FE4ECF8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4B246-0704-496F-BCF1-5978DB80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0AFEA-9688-4F01-8343-950D09C5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B3B-2517-4E1A-BA19-A94C8BF0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C1F80-52B4-4123-8447-C36057FB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179B4-1174-4D24-85A3-09E90B79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6958A-1EA5-47F2-898C-CE8FC119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9F6D4-E213-4222-BE80-CA55AB14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FCF6F-C719-4067-8334-95676882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CC73C-6F4E-4994-A7BE-614A56DA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5292D-7476-4DDD-9F46-796B8724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80663-8F74-46FE-88E9-D7A32B9B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4537D-2127-4DEA-9944-2E1A9CB9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FB22E-438A-4AE2-B66D-EC111FCA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A2B-2069-4C10-9BE5-3F0C0FDB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1CE63-56D6-4A09-9A92-AD53232D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8A9B4-0F65-4C0C-AB56-3A2C7A06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49AB2-7343-465D-8A6D-FD928365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4D1C6-8281-4E96-8193-92144FD4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05CCC-3D65-4415-9740-2A1F62F9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40290-39E2-464F-B548-C47879CF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8C648-B452-42C9-8C5E-2FAE2BDC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ľná form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ľná form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uhlý trojuho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uhlý trojuho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ovná spojnic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2FF9-3FF6-4249-ADFF-116404057D32}" type="slidenum">
              <a:rPr b="0" lang="sk-SK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uhlý trojuho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oľná forma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ľná forma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ľná forma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oľná forma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ovná spojnica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D15E-9F88-485E-9CF3-37F7E1D109A9}" type="slidenum">
              <a:rPr b="0" lang="sk-SK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ľná form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ľná form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uhlý trojuho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uhlý trojuho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ovná spojnic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Výlož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Výlož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DCB5-CDED-4BD6-A25E-2868CAB3A63A}" type="slidenum">
              <a:rPr b="0" lang="sk-SK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oľná form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oľná form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Pravouhlý trojuho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Pravouhlý trojuho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ovná spojnic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9446-B97B-4C5C-8EEB-EAA43F4AC3D8}" type="slidenum">
              <a:rPr b="0" lang="sk-SK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C89E-9EFB-4264-82A6-BCAE22615E81}" type="slidenum">
              <a:rPr b="0" lang="sk-SK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oľná form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oľná form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Pravouhlý trojuho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Pravouhlý trojuho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ovná spojnic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B1FF-ED6C-40E6-9357-3B4C23123EAD}" type="slidenum">
              <a:rPr b="0" lang="sk-SK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A674-D2BF-44F0-9621-0AFE76783DE5}" type="slidenum">
              <a:rPr b="0" lang="sk-SK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oľná forma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oľná forma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Pravouhlý trojuho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Pravouhlý trojuho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ovná spojnic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Výlož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Výlož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4B70-6C0F-4FDE-9CDD-845971134FDE}" type="slidenum">
              <a:rPr b="0" lang="sk-SK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Nadpis 1" descr=""/>
          <p:cNvPicPr/>
          <p:nvPr/>
        </p:nvPicPr>
        <p:blipFill>
          <a:blip r:embed="rId1"/>
          <a:stretch/>
        </p:blipFill>
        <p:spPr>
          <a:xfrm>
            <a:off x="633240" y="1352520"/>
            <a:ext cx="778536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214280" y="3428640"/>
            <a:ext cx="6400800" cy="2685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464646"/>
                </a:solidFill>
                <a:latin typeface="Lucida Sans Unicode"/>
              </a:rPr>
              <a:t>Mississipp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464646"/>
                </a:solidFill>
                <a:latin typeface="Lucida Sans Unicode"/>
              </a:rPr>
              <a:t>Mississippská níži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b5b5b5"/>
                </a:solidFill>
                <a:latin typeface="Lucida Sans Unicode"/>
              </a:rPr>
              <a:t>Mackenz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b5b5b5"/>
                </a:solidFill>
                <a:latin typeface="Lucida Sans Unicode"/>
              </a:rPr>
              <a:t>Mexický záliv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b5b5b5"/>
                </a:solidFill>
                <a:latin typeface="Lucida Sans Unicode"/>
              </a:rPr>
              <a:t>autor: Michal Jurá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Šípka doprava 3"/>
          <p:cNvSpPr/>
          <p:nvPr/>
        </p:nvSpPr>
        <p:spPr>
          <a:xfrm>
            <a:off x="6000840" y="571680"/>
            <a:ext cx="2357280" cy="100008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d0d0d"/>
                </a:solidFill>
                <a:latin typeface="Lucida Sans Unicode"/>
              </a:rPr>
              <a:t>späť do regi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6429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Lucida Sans Unicode"/>
              </a:rPr>
              <a:t>Je rieka pretekajúca US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Lucida Sans Unicode"/>
              </a:rPr>
              <a:t>Je to najdlhšia rieka v Severnej Amerik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Lucida Sans Unicode"/>
              </a:rPr>
              <a:t>späť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Nadpis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Lucida Sans Unicode"/>
              </a:rPr>
              <a:t>Je na juhu USA, v povodí dolnej Mississippi až k sútoku s riekou s Ohi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Lucida Sans Unicode"/>
              </a:rPr>
              <a:t>späť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Nadpis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Lucida Sans Unicode"/>
              </a:rPr>
              <a:t>Je rieka na severozápade Kanady v Severozápadnom teritóriu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Lucida Sans Unicode"/>
              </a:rPr>
              <a:t>späť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Nadpis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Lucida Sans Unicode"/>
              </a:rPr>
              <a:t>Je to záliv Atlantického oceán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Lucida Sans Unicode"/>
              </a:rPr>
              <a:t>Nachádza sa na juhu Severnej Amerik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Lucida Sans Unicode"/>
              </a:rPr>
              <a:t>Je známy obrovskými zásobami rop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Lucida Sans Unicode"/>
              </a:rPr>
              <a:t>späť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Nadpis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21:58Z</dcterms:created>
  <dc:creator>Admin</dc:creator>
  <dc:description/>
  <dc:language>en-US</dc:language>
  <cp:lastModifiedBy>lenovo_ntb</cp:lastModifiedBy>
  <dcterms:modified xsi:type="dcterms:W3CDTF">2010-06-13T12:42:05Z</dcterms:modified>
  <cp:revision>7</cp:revision>
  <dc:subject/>
  <dc:title>M</dc:title>
</cp:coreProperties>
</file>