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DF7-B9A0-4A8C-B060-A943D0F0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94E-3C4F-4215-B80F-BB8216F4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BC9-AE50-4C2E-8BBA-260331BE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003-A902-40D0-BCAB-56857649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AD4E-26DE-4419-AC78-598AAE29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7CE4-0585-45FB-8B2F-CE95B222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4316-4635-48FA-A41B-50118EE4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8068-1266-4244-AA4B-2853E3DE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5E49-FF32-4D42-887F-3E738E29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76C5-9BB5-4845-801D-A202A49E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DF46-D513-49EF-80B8-AAF2FC5C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27C-8C4A-43BA-90F8-7A2FA584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10A0-1574-42E2-BD1D-F8E15FEB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ACB0-62CA-4260-95D7-5BC9F647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CA14-966D-44F3-8A8E-09A4CDEB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CC34-D201-41B4-8CC2-A06A5B3F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DED3-AD0A-4B5A-8861-02F8C885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E0D41-3CE7-43F5-85B9-ECE12916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3BBA0-227E-4913-8ADC-3CCCA40A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1F729-890E-465D-9925-BD6ACB77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2880C-B98E-4B82-BA15-80EB4F71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30ADF-E9DC-4695-9BEC-0C28F724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13D-5287-41F6-9D37-06C794CD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FD9BE-D8A0-422A-B053-AC826165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1158-14F0-41FC-9F92-5F2B27CF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102D4-A67F-46E4-A4AB-2591D095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8DC54-BCB0-460D-A422-5CC4B65C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D94C3-9C1F-4684-A2E3-78520904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27C62-26AA-4FE8-BE65-A375DBAD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920A5-EB20-48B7-A8E7-23D0E8E0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A974A-F1E6-4EC8-A561-E2ED537C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27F90-A3DB-4CE0-A4B1-3944FD95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0679-3F09-44B1-89AA-C16A0E54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CF3-5D31-4CFE-9978-37AC7F77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DA337-65ED-4F4E-8789-7194FFF9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02E2D-B565-47E7-BF72-FF3A500E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A1300-786B-4A58-B86B-89EF056A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4980D-96F0-46CC-A998-FD5F8972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49D60-85B2-49AB-9311-45BE4E76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0F1D3-840B-4C11-B7A7-FEA29E7D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E555D-DC41-4F62-9C25-54D12B16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E4092-733D-45B7-9D31-7287577E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D31C1-2558-428C-831B-BC4C8FD7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81773-0D02-45D9-99E6-CE39AB62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DFC-2899-4391-99A8-17D53727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72E8E-D843-45E4-A80E-9D99CD36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01DE8-82BD-48E8-A351-DF3E66FE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E2C06-A7D0-4CBF-A412-0094385D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75831-7EF4-4903-BBAE-67A90D61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16047-C673-47F5-8C35-FFCBA13F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F40FA-7A44-470A-AB0A-8B055F04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44085-709D-45EF-9DA3-8F1B7328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4792C-6FF7-4E6A-A812-F0C3A6F8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098C3-41D8-4E6F-8460-7720700E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84BA8-1D7E-4ECD-BF1B-7B7180DD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17B-2916-4730-8212-25CF5E0C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7D365-B6F2-4DAF-8562-028C3441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7B4-0033-428D-9173-A7C17D42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F9F-ECC8-46C1-A876-358FDA00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385-CE30-47DC-BCFC-5DE6C29B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ĺžni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aoblený obdĺžni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2CC6-F857-44E3-ABB4-E59BD71D39C0}" type="slidenum">
              <a:rPr b="0" lang="sk-SK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ĺžni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aoblený obdĺžnik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ĺžnik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ĺžnik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ĺžnik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33FE-7EC7-4472-A882-80A102007455}" type="slidenum">
              <a:rPr b="0" lang="sk-SK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ĺžni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Zaoblený obdĺžnik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Zaoblený obdĺžnik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Obdĺžnik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ĺžnik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ĺžnik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0D7B-8C78-42C4-A5B8-E8436BF26E35}" type="slidenum">
              <a:rPr b="0" lang="sk-SK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dĺžni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aoblený obdĺžni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ĺžni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aoblený obdĺžnik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3CC1-94E5-456B-AFFE-6D877B32A6F0}" type="slidenum">
              <a:rPr b="0" lang="sk-SK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bdĺžni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aoblený obdĺžni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dĺžnik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dĺžnik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dĺžnik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4487-BB5A-4320-B531-CA3701902792}" type="slidenum">
              <a:rPr b="0" lang="sk-SK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Amerika%20od%20A%20po%20Z.ppt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696464"/>
                </a:solidFill>
                <a:latin typeface="Perpetua"/>
              </a:rPr>
              <a:t>Caraca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696464"/>
                </a:solidFill>
                <a:latin typeface="Perpetua"/>
              </a:rPr>
              <a:t>Columbi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696464"/>
                </a:solidFill>
                <a:latin typeface="Perpetua"/>
              </a:rPr>
              <a:t>Colorad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Franklin Gothic Book"/>
              </a:rPr>
              <a:t>C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BlokTextu 5"/>
          <p:cNvSpPr/>
          <p:nvPr/>
        </p:nvSpPr>
        <p:spPr>
          <a:xfrm>
            <a:off x="871200" y="59292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utor: Samuel Blaš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Šípka doprava 6">
            <a:hlinkClick r:id="rId1"/>
          </p:cNvPr>
          <p:cNvSpPr/>
          <p:nvPr/>
        </p:nvSpPr>
        <p:spPr>
          <a:xfrm>
            <a:off x="5857920" y="5500800"/>
            <a:ext cx="1357200" cy="9284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Perpetua"/>
              </a:rPr>
              <a:t>späť do reg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696464"/>
                </a:solidFill>
                <a:latin typeface="Franklin Gothic Book"/>
              </a:rPr>
              <a:t>Colorad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Perpetua"/>
              </a:rPr>
              <a:t>Východ štátu je tvorený veľkými prériami, ktoré sa v polovici štátu menia v mohutné Skalnaté vrchy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Perpetua"/>
              </a:rPr>
              <a:t>Dažďové zrážky vo východnom Colorade sú veľmi malé a ročný úhrn je okolo 15 mm zrážok. To z východného Colorada robí veľmi suchou krajinou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Picture 5" descr="native-albums-rocky-mountains-colorado-picture34-durango-colorado"/>
          <p:cNvPicPr/>
          <p:nvPr/>
        </p:nvPicPr>
        <p:blipFill>
          <a:blip r:embed="rId1"/>
          <a:stretch/>
        </p:blipFill>
        <p:spPr>
          <a:xfrm>
            <a:off x="5867280" y="4724280"/>
            <a:ext cx="3059280" cy="1773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native-albums-rocky-mountains-colorado-picture34-durango-colorado"/>
          <p:cNvPicPr/>
          <p:nvPr/>
        </p:nvPicPr>
        <p:blipFill>
          <a:blip r:embed="rId2"/>
          <a:stretch/>
        </p:blipFill>
        <p:spPr>
          <a:xfrm>
            <a:off x="6300720" y="7893000"/>
            <a:ext cx="33339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696464"/>
                </a:solidFill>
                <a:latin typeface="Franklin Gothic Book"/>
              </a:rPr>
              <a:t>Columb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1267920"/>
            <a:ext cx="86979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Perpetua"/>
              </a:rPr>
              <a:t>Je to hlavé mesto v štate Južna Karolín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Perpetua"/>
              </a:rPr>
              <a:t>Je to mesto v štáte Marylan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5" descr="Columbia-City"/>
          <p:cNvPicPr/>
          <p:nvPr/>
        </p:nvPicPr>
        <p:blipFill>
          <a:blip r:embed="rId1"/>
          <a:stretch/>
        </p:blipFill>
        <p:spPr>
          <a:xfrm>
            <a:off x="4859280" y="2492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696464"/>
                </a:solidFill>
                <a:latin typeface="Franklin Gothic Book"/>
              </a:rPr>
              <a:t>Carac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Perpetua"/>
              </a:rPr>
              <a:t>Caracas</a:t>
            </a:r>
            <a:r>
              <a:rPr b="0" lang="sk-SK" sz="2600" spc="-1" strike="noStrike">
                <a:solidFill>
                  <a:srgbClr val="000000"/>
                </a:solidFill>
                <a:latin typeface="Perpetua"/>
              </a:rPr>
              <a:t> je hlavné mesto Venezuel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Perpetua"/>
              </a:rPr>
              <a:t>Mesto má 3 247 000 obyvateľov (sčítanie obyvateľstva z roku 1998)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Perpetua"/>
              </a:rPr>
              <a:t>Caracas je prístavné mest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13" descr="caracas"/>
          <p:cNvPicPr/>
          <p:nvPr/>
        </p:nvPicPr>
        <p:blipFill>
          <a:blip r:embed="rId1"/>
          <a:stretch/>
        </p:blipFill>
        <p:spPr>
          <a:xfrm>
            <a:off x="4626000" y="3857760"/>
            <a:ext cx="43020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07:08:34Z</dcterms:created>
  <dc:creator>Skola</dc:creator>
  <dc:description/>
  <dc:language>en-US</dc:language>
  <cp:lastModifiedBy>lenovo_ntb</cp:lastModifiedBy>
  <dcterms:modified xsi:type="dcterms:W3CDTF">2010-06-13T12:42:49Z</dcterms:modified>
  <cp:revision>4</cp:revision>
  <dc:subject/>
  <dc:title>C</dc:title>
</cp:coreProperties>
</file>