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344-C7BB-4C5F-A724-95067394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FF4-9954-4B71-9D79-5911325E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3EB-0479-421E-9A9B-D3849236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43F-255C-49BA-AECD-5357F8EC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B7A-58DB-4E79-A3FE-DD739B36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B1C-1BC4-44F7-A763-E93EE326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3E9-B724-43D6-8D8E-45502678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17C5-820F-4CC7-B2FA-4CF9251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A75-F00B-4A14-9005-47BE69E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ED23-664C-4DC7-821D-7EF1B1D3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6286-750B-4887-96B2-B9793D9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910-79D9-4580-BBAE-50077594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E336-E89C-4C52-9F48-9E49743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320-6638-4E0A-8860-48D13963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26A-91C8-4571-8302-C2E0444C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A86-4F45-49D4-9982-AB6E8BCE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3DD-FFBC-466A-AD6D-66FBF4C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5C07-06F4-4BF7-99CD-C56B6F5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E487-06AE-4940-9F3A-DE8B2E1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EFF6-872F-4766-AF7E-0922517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2A38-F39C-47C0-9AD5-6B4E813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95B4-9B6C-4A83-9AE8-EE5DD68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2AB-957A-49AB-BDFD-AB08D034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9D5B-9E67-4DB8-A6DA-BAE4CAC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67B7-2C9C-4EEC-BD08-9D7BE2C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B28C-8339-4220-9292-7FCD446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F7D9-FA34-48C1-81B4-F1FED98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4D42-BCF1-4FFC-ADE0-1A7E016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F195-2B1B-4002-A7A0-73048B55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52E4-64D0-4B9F-9000-471B4DE7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D557-149C-4C7C-89C8-6B37052D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6A60-FF7E-43FE-A5FD-53BE9DC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6D9F-EBC8-40C2-9AB5-D11F110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DAB-C3F2-40E4-8FA3-7AA1BC88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81B8-1D88-4106-804D-8A04A121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A7E7-F681-4474-ABA0-C4FD69D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5A56-27EF-4455-99FF-6D241F2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7279-4287-4D27-B575-E059400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4A2C-E266-450E-8FA2-076B15F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BAE61-FFE0-40AB-BCCF-E73A7E2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DFEB-DAF8-48C1-88B6-ED32F94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82BF-66A6-46D7-865B-23222FD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8692-32F1-4C5C-A17A-F4495415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7C4B-6FCC-4A8A-B812-67FCCCAC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807-91EF-49F9-9E28-D85131D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73DDA-7C23-4296-8B50-50824EB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8FD0-B426-45E0-9F99-4E3B206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CB30-201C-4CAE-ADFA-AE4C786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2198-0146-4EEF-95D2-905008D2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645A-A17D-4598-A018-A80E9FD2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657C-B1C8-433E-8718-3EA9F22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11D0-48DE-4B9F-AEEF-8F368BF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1D33D-72E2-4831-985D-059388F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FCE3-D16D-4141-BBF5-B8417050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D657-01BA-4753-9A61-A88D9E9A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1AA-F3AE-4A6A-B343-13571917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5F46B-C89B-4F97-9860-52BE46D3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3411-C196-4125-B5B4-3F9B5A6D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C5FC-917C-4831-85C7-425C47B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9DF3-982B-4BA6-8819-3F622F70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AA37-49A5-468C-8A9D-86EF359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6015-C79F-436A-A8BE-5EF0D0B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EF86-D325-4E33-8935-1AB4C49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4CDE-2C7B-4453-9F1D-B80A341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FA87-21B8-4CF8-8A6C-CA15DB5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7B30-510F-4AB4-B7BA-3E0707E7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AB2-C454-47DB-B765-75D541F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F0A0-CC9D-4422-B8AC-0C6650B1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CF23-9452-4B77-9A36-F4B42ABE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BB50-64F2-4F7E-B21E-27A2F85C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FEC-2C49-45EE-A21B-ED67F3A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998-DD88-4D35-9D90-FC96B62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ľná forma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ľná forma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BA55-B503-4D20-B978-07FEB7AD57D8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ľná forma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ľná forma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A6CB-45D9-4C97-8B02-8DE713CB9932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ľná forma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ľná forma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596-3C92-45CB-BAB3-AA13C2296B8D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93B-15A7-450F-A555-839CECA9D84E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ľná forma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ľná forma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B7F-D036-407C-9D7D-0078B7C92B67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E641-BFBB-4F84-8D80-A499E5460ED9}" type="slidenum">
              <a:rPr b="0" lang="sk-SK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133200" y="365040"/>
            <a:ext cx="68407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85880" y="257148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Veľké pré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Veľké medvedie jaz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Veľké jazero otro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utor: Lukáš Nitš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Šípka doprava 3"/>
          <p:cNvSpPr/>
          <p:nvPr/>
        </p:nvSpPr>
        <p:spPr>
          <a:xfrm>
            <a:off x="6215040" y="557208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päť do regis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ffffff"/>
                </a:solidFill>
                <a:latin typeface="Baveuse"/>
              </a:rPr>
              <a:t>Veľké préri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Je oblasť v USA a v Kanade medzi 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Skalnatými vrchm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 a riekou Mississipp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http://t3.gstatic.com/images?q=tbn:zElTFF3vrBBvoM:http://www.oapk.sk/cvicfirmy/cvfirmy/extrawatour/amerika/assets/2.jpg"/>
          <p:cNvPicPr/>
          <p:nvPr/>
        </p:nvPicPr>
        <p:blipFill>
          <a:blip r:embed="rId1"/>
          <a:stretch/>
        </p:blipFill>
        <p:spPr>
          <a:xfrm rot="20344200">
            <a:off x="2733840" y="3728880"/>
            <a:ext cx="3770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ffffff"/>
                </a:solidFill>
                <a:latin typeface="Arial Black"/>
              </a:rPr>
              <a:t>Veľké medvedie jazer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Veľké medvedie jazer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  je jazero v severozápadnej Kan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Jazero má tektonicko-ľadovcový pôv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http://t2.gstatic.com/images?q=tbn:fDzOdWgAuQFiSM:http://img.cestovanie.sk/magaziny/images/cestovanie/stories/destinacia_tyzdna/Bajkal/shutterstock_20512430.jpg"/>
          <p:cNvPicPr/>
          <p:nvPr/>
        </p:nvPicPr>
        <p:blipFill>
          <a:blip r:embed="rId1"/>
          <a:stretch/>
        </p:blipFill>
        <p:spPr>
          <a:xfrm rot="20306400">
            <a:off x="3206520" y="3855600"/>
            <a:ext cx="38415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ffffff"/>
                </a:solidFill>
                <a:latin typeface="Biondi"/>
              </a:rPr>
              <a:t>Veľké jazero otrokov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Veľké jazero otrokov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  je jazero v severozápadnej Kanad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Maximálnu hĺbku 614 m. Je to najhlbšie jazero v </a:t>
            </a:r>
            <a:r>
              <a:rPr b="0" lang="sk-SK" sz="2600" spc="-1" strike="noStrike" u="sng">
                <a:solidFill>
                  <a:srgbClr val="ffffff"/>
                </a:solidFill>
                <a:uFillTx/>
                <a:latin typeface="Arial"/>
              </a:rPr>
              <a:t>Severnej Amerik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ffff"/>
                </a:solidFill>
                <a:uFillTx/>
                <a:latin typeface="Arial"/>
              </a:rPr>
              <a:t>späť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http://t1.gstatic.com/images?q=tbn:eaqZ26DiPYt8GM:http://upload.wikimedia.org/wikipedia/commons/thumb/7/7d/Yellowknife_houseboats.JPG/800px-Yellowknife_houseboats.JPG"/>
          <p:cNvPicPr/>
          <p:nvPr/>
        </p:nvPicPr>
        <p:blipFill>
          <a:blip r:embed="rId1"/>
          <a:stretch/>
        </p:blipFill>
        <p:spPr>
          <a:xfrm rot="20490000">
            <a:off x="4211280" y="374292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600" spc="-1" strike="noStrike">
                <a:solidFill>
                  <a:srgbClr val="ffffff"/>
                </a:solidFill>
                <a:latin typeface="Blue Highway Linocut"/>
              </a:rPr>
              <a:t>Venezuel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Venezue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je federatívna republika na severe Južnej Ameri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lavným mestom je Cara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http://t0.gstatic.com/images?q=tbn:ZhEAuUDUQkplNM:http://senderodepaz.files.wordpress.com/2009/07/venezuela-isla-margarita-4.jpg"/>
          <p:cNvPicPr/>
          <p:nvPr/>
        </p:nvPicPr>
        <p:blipFill>
          <a:blip r:embed="rId1"/>
          <a:stretch/>
        </p:blipFill>
        <p:spPr>
          <a:xfrm rot="20443800">
            <a:off x="4065480" y="4266720"/>
            <a:ext cx="31435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1:48Z</dcterms:created>
  <dc:creator>Admin</dc:creator>
  <dc:description/>
  <dc:language>en-US</dc:language>
  <cp:lastModifiedBy>lenovo_ntb</cp:lastModifiedBy>
  <dcterms:modified xsi:type="dcterms:W3CDTF">2010-06-13T12:45:01Z</dcterms:modified>
  <cp:revision>10</cp:revision>
  <dc:subject/>
  <dc:title>V</dc:title>
</cp:coreProperties>
</file>