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FBE-2318-40A7-B64B-C634924F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A85-E16B-46D6-ADC5-4DF7845A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8DB-2AB6-4D97-B981-D2858474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F24-22AF-4285-9CC5-D9DA926B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EF4A-0FB5-4AA2-9E64-92D4D8A0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E276-58D4-43D8-82D6-8FCD40B0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642C-3D74-42B5-9288-2FE9EA15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E5D1-2E2F-468E-A48B-6D11F585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7946-920D-4075-A939-4652BC0C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0E83-C473-4AF1-993C-1A6E7C60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B4BC-5945-4501-8E5D-BF0B1A5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EFE-D36E-49A8-BE32-A29622B7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069C-08B0-47D9-9828-DD1B5108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77C2-D8AE-4850-8B90-94318544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83CF-5AF6-448F-B471-3514A183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FC9B-62FB-4983-B0E7-70A325C2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F3A2-BC84-43D7-A67F-56F58EDA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E14-36C1-4D2E-88F3-055F1F75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92A-1A38-4C6F-9420-7628E1D8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3BD-38D6-410A-86DA-B3CBBE58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3A0-F386-4B55-9E1B-2730A63B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52A-2F8D-442E-97F4-E9FA40E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F30-BC9F-4FCD-8C7A-813DE433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B3D-7954-4360-9704-2F6C2634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89CF-35BE-4869-B0F8-E1E861EE0E60}" type="slidenum">
              <a:rPr b="0" lang="sk-SK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6651-10C3-437E-A1AA-0FD764FC83D6}" type="slidenum">
              <a:rPr b="0" lang="sk-SK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Arial Black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cc00"/>
                </a:solidFill>
                <a:latin typeface="Arial Black"/>
              </a:rPr>
              <a:t>Daeth</a:t>
            </a:r>
            <a:r>
              <a:rPr b="0" lang="sk-SK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sz="3200" spc="-1" strike="noStrike">
                <a:solidFill>
                  <a:srgbClr val="ffcc00"/>
                </a:solidFill>
                <a:latin typeface="Arial Black"/>
              </a:rPr>
              <a:t>wale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00"/>
                </a:solidFill>
                <a:latin typeface="Arial Black"/>
              </a:rPr>
              <a:t>Drakov prieli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00"/>
                </a:solidFill>
                <a:latin typeface="Arial Black"/>
              </a:rPr>
              <a:t>Dolá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cc00"/>
                </a:solidFill>
                <a:latin typeface="Arial Unicode MS"/>
                <a:ea typeface="Arial Unicode MS"/>
              </a:rPr>
              <a:t>autor: Júlia Jánošíková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Šípka doprava 5"/>
          <p:cNvSpPr/>
          <p:nvPr/>
        </p:nvSpPr>
        <p:spPr>
          <a:xfrm>
            <a:off x="5929200" y="5214960"/>
            <a:ext cx="235764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8b17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f0d"/>
                </a:solidFill>
                <a:latin typeface="Arial Black"/>
              </a:rPr>
              <a:t>späť do registr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e1f08"/>
                </a:solidFill>
                <a:latin typeface="Arial Black"/>
              </a:rPr>
              <a:t>DEATH VALL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cc00"/>
                </a:solidFill>
                <a:latin typeface="Arial Black"/>
              </a:rPr>
              <a:t>Death valley</a:t>
            </a:r>
            <a:r>
              <a:rPr b="0" lang="sk-SK" sz="2000" spc="-1" strike="noStrike">
                <a:solidFill>
                  <a:srgbClr val="ffcc00"/>
                </a:solidFill>
                <a:latin typeface="Arial Black"/>
              </a:rPr>
              <a:t>, hovorovo Údolie smrti, je údolie s najnižšie položeným miestom Kaliforni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Arial Black"/>
              </a:rPr>
              <a:t>Je 86 metrov pod </a:t>
            </a:r>
            <a:r>
              <a:rPr b="0" sz="2000" spc="-1" strike="noStrike">
                <a:solidFill>
                  <a:srgbClr val="ffcc00"/>
                </a:solidFill>
                <a:latin typeface="Arial Black"/>
              </a:rPr>
              <a:t>úrovńou </a:t>
            </a:r>
            <a:r>
              <a:rPr b="0" lang="sk-SK" sz="2000" spc="-1" strike="noStrike">
                <a:solidFill>
                  <a:srgbClr val="ffcc00"/>
                </a:solidFill>
                <a:latin typeface="Arial Black"/>
              </a:rPr>
              <a:t>mor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Arial Black"/>
              </a:rPr>
              <a:t>späť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Picture 6" descr="nevada-death-valley"/>
          <p:cNvPicPr/>
          <p:nvPr/>
        </p:nvPicPr>
        <p:blipFill>
          <a:blip r:embed="rId1"/>
          <a:stretch/>
        </p:blipFill>
        <p:spPr>
          <a:xfrm>
            <a:off x="4683240" y="2600280"/>
            <a:ext cx="373536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e103"/>
                </a:solidFill>
                <a:latin typeface="Arial Black"/>
              </a:rPr>
              <a:t>DRAKEOV PRIELIV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00"/>
                </a:solidFill>
                <a:latin typeface="Arial Black"/>
              </a:rPr>
              <a:t>Je najširší a zároveń najhlbší prieliv na Zemi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00"/>
                </a:solidFill>
                <a:latin typeface="Arial Black"/>
              </a:rPr>
              <a:t>Je široký 1100 km a dlhý 460 k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00"/>
                </a:solidFill>
                <a:latin typeface="Arial Black"/>
              </a:rPr>
              <a:t>späť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Picture 5" descr="baD_52303_m"/>
          <p:cNvPicPr/>
          <p:nvPr/>
        </p:nvPicPr>
        <p:blipFill>
          <a:blip r:embed="rId1"/>
          <a:stretch/>
        </p:blipFill>
        <p:spPr>
          <a:xfrm>
            <a:off x="1619280" y="1125360"/>
            <a:ext cx="476244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8b17"/>
                </a:solidFill>
                <a:latin typeface="Arial Black"/>
              </a:rPr>
              <a:t>DOLÁR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Arial Black"/>
              </a:rPr>
              <a:t>Americký dolár je najpoužívanejšia mena na sve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Arial Black"/>
              </a:rPr>
              <a:t>Z Holandska sa šíril po svete vzhľadom na čulý obchodný sty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Arial Black"/>
              </a:rPr>
              <a:t>1 euro je 1,205 dolárov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Arial Black"/>
              </a:rPr>
              <a:t>spä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5" descr="dolare_bankovky_mince_8"/>
          <p:cNvPicPr/>
          <p:nvPr/>
        </p:nvPicPr>
        <p:blipFill>
          <a:blip r:embed="rId1"/>
          <a:stretch/>
        </p:blipFill>
        <p:spPr>
          <a:xfrm>
            <a:off x="5148360" y="3573360"/>
            <a:ext cx="28573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36:58Z</dcterms:created>
  <dc:creator>ŽIak</dc:creator>
  <dc:description/>
  <dc:language>en-US</dc:language>
  <cp:lastModifiedBy>lenovo_ntb</cp:lastModifiedBy>
  <dcterms:modified xsi:type="dcterms:W3CDTF">2010-06-13T12:30:28Z</dcterms:modified>
  <cp:revision>5</cp:revision>
  <dc:subject/>
  <dc:title>Snímka 1</dc:title>
</cp:coreProperties>
</file>