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DD9-F010-489D-BBD1-76711BFE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18C-8FDB-4BB0-9502-747DE03A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D75-9325-428E-BB7D-25AEEBC5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D9E-6963-4A34-9A52-F498CC47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ADCE-D714-4C6C-B113-865F1F71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F757-6552-4A08-B2D7-9C444CC5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21D0-A667-4975-932B-29124692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DC7B-F134-442A-BDA8-F66B4832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C177-D1E3-4C86-8633-8A5BFD0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E6F8-BA91-45B6-92E9-D09C929F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82F-2F69-4655-9128-F1E9FEF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399-10F3-48A3-AF60-732383AC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940B-A110-433F-8E87-5F507D7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5D13-FB70-40B5-B807-8702A6EA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EE00-76EA-4510-9972-D83491D7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8482-6EE1-476D-A6D6-0837699F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1797-6E73-4E4A-A9A0-8B721474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C994-5D2C-432C-AA33-E8AFB1E3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1955-4F26-47C6-BEDF-632630B6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DCF9-D096-4768-8214-32927C52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24C0-E360-479F-92DC-8E8CDBE2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DE219-E408-462B-8AA6-A99897FF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442-14D3-4F9A-A35D-0BB15E06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00BF1-96E3-4735-8176-C63C58EB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C9C8-9F7C-4689-8CED-2D15C9E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D628-070B-40AD-814C-FD334B6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2DEE-267B-4C89-A99D-3A793335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9DB0F-1BFD-4319-ABF9-4FE87077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8742-4FD0-4D26-BC64-0ED5783E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6246-1A0D-42BE-ADC2-130FC042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A4F0B-7285-46E4-8C5B-F1640BBF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4B9C-A949-41E4-BABE-936AB8D0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C222B-634A-4BA2-8B4F-3355A3BB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EE8-4384-48EA-9EBC-BF6CC60E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0D3A-4C15-4104-942C-BF3EFD43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4BA5-1F51-41AA-B4D4-FE1C5F9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CC68-DCB6-4ED7-8998-BBF7D6F2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6D7D-7772-456B-BAE2-F7C10C1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48B83-9800-47E4-95F8-0FC75B1C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22FE7-0658-4A08-A558-941F8F6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27B5-0F2D-48DB-90C1-1A49E15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28B5-6F73-40F7-AF51-DA55372E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F1D9-3EEC-4D67-8AE3-3B064E51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25776-61DC-486C-A038-08B9D23C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810-FBB9-424D-87E1-4291F6AF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7A391-1D77-486E-9171-BA54C8AC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86F3A-3EFD-415C-A456-B380B618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E61E-D11E-476A-A971-D0AA5AA6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600E-BADD-44CE-8108-319A66C1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D8D9-7563-48EB-8D1A-E8847C41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8DA42-472B-4828-85EE-46A7C771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F3E6-D4F2-41BF-87B3-FEDB6F0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B7595-9CD0-4F61-ABAC-B66C764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EAA93-8DBB-4E26-9650-5A989E02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C849C-426E-4087-AB36-46DEDAB7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3DD-5354-4636-B801-257F9BAF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D05EB-B239-46DF-B26D-906B4420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A8960-4926-4F97-A651-784EA0F7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91C9-8F8B-4905-9B97-DF115762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443B-9947-4498-8C05-4A936DFD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5385-56D4-4897-99B4-643D636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34DF6-CAC9-41B6-8B0E-C0892B1C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05D17-947D-496D-99BA-FD4BE307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1DD0D-B9E0-4405-8F9D-0F26190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DDA72-43CA-4457-80C0-849E9503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6C9DD-5A28-4A89-AA52-58AB3F14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FF7-583D-45FD-9608-0DADFFC3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B8B5F-1567-488A-9FE0-531B8310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42E32-FDE3-4C39-9FE4-08F33DA1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9C170-EBC6-4A00-BCA3-8FD39817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EEB22-97FE-4D16-B40C-6C93B18B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6CDA-7DC6-47AF-A555-F3D53DA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39CFA-2F1C-4AC3-AD64-ED45BCFE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5DF82-BD74-4D7B-A065-0BE9A442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53FB4-2EA4-43F7-A50E-9A31B386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DA889-4BEE-4348-A57A-3A9FE737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27DDC-43DA-4B9A-A9B4-66CFE9A7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88E-EB75-4AC7-8DA6-4219EAB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356EA-582F-4501-B2EE-4E7CE07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777FE-15D9-4472-ADE4-7D1CE2EA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68B7-29B2-44E5-8DF6-BE24B616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3C16-0FC1-43FA-A0DB-B99389C8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E837-D682-49AA-80AE-E045F5B1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844-0DA8-420D-8C5C-A69A031E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ĺžni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Obdĺžni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Obdĺžni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Obdĺžni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Obdĺžni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Obdĺžni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Obdĺžni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Obdĺžni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Obdĺžni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627-C441-4CA3-AEE5-B98FA0DA8EE6}" type="slidenum">
              <a:rPr b="0" lang="sk-SK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ĺžni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Obdĺžni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Obdĺžni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Obdĺžni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Obdĺžni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Obdĺžni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Obdĺžni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Obdĺžni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Obdĺžni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A377-67E8-4583-BA5E-2230E1408565}" type="slidenum">
              <a:rPr b="0" lang="sk-SK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ĺžni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Obdĺžni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Obdĺžni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Obdĺžni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Obdĺžni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Obdĺžni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Obdĺžni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Obdĺžni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Obdĺžni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Voľná forma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Voľná forma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Voľná forma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Voľná forma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Voľná forma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Voľná forma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Voľná forma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Voľná forma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Voľná forma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Voľná forma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Voľná forma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Voľná forma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Voľná forma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Voľná forma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Voľná forma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Obdĺžni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Obdĺžni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Obdĺžni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Obdĺžni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Obdĺžni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Obdĺžni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23D6-4C29-424C-B902-CE851B6AAAB2}" type="slidenum">
              <a:rPr b="0" lang="sk-SK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65B9-CCC8-4576-B589-E5184366F947}" type="slidenum">
              <a:rPr b="0" lang="sk-SK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ĺžni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Obdĺžni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Obdĺžni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Obdĺžni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Obdĺžni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Obdĺžni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Obdĺžni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Obdĺžni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Obdĺžni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Obdĺžni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2F8F-F624-4C4F-8477-51546C481A22}" type="slidenum">
              <a:rPr b="0" lang="sk-SK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8008-7654-45E8-B029-7BF1CEA58E87}" type="slidenum">
              <a:rPr b="0" lang="sk-SK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ĺžni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Obdĺžni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Obdĺžni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Obdĺžni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Obdĺžni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Obdĺžni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Obdĺžni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Obdĺžni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Obdĺžni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Obdĺžni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Rovná spojnic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Rovná spojnica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Rovná spojnica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Rovná spojnica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Rovná spojnica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Rovná spojnica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Rovná spojnica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Rovná spojnica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Rovná spojnica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Rovná spojnica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36DD-B7D2-4505-B59D-26E8183597D6}" type="slidenum">
              <a:rPr b="0" lang="sk-SK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010360" cy="24703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07172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eb8803"/>
                </a:solidFill>
                <a:uFillTx/>
                <a:latin typeface="Corbel"/>
                <a:hlinkClick r:id="rId2" action="ppaction://hlinksldjump"/>
              </a:rPr>
              <a:t>Amazonka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Corbel"/>
              </a:rPr>
              <a:t>Angelov vodopá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Corbel"/>
              </a:rPr>
              <a:t>Atlantický </a:t>
            </a:r>
            <a:r>
              <a:rPr b="0" lang="sk-SK" sz="2400" spc="-1" strike="noStrike">
                <a:solidFill>
                  <a:srgbClr val="0070c0"/>
                </a:solidFill>
                <a:latin typeface="Corbel"/>
              </a:rPr>
              <a:t> oceá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BlokTextu 3"/>
          <p:cNvSpPr/>
          <p:nvPr/>
        </p:nvSpPr>
        <p:spPr>
          <a:xfrm>
            <a:off x="1166040" y="592920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orbel"/>
              </a:rPr>
              <a:t>Autor: Ivan Bodná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Šípka doprava 4"/>
          <p:cNvSpPr/>
          <p:nvPr/>
        </p:nvSpPr>
        <p:spPr>
          <a:xfrm>
            <a:off x="6357960" y="5572080"/>
            <a:ext cx="157176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orbel"/>
              </a:rPr>
              <a:t>späť do registr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1eeff"/>
                </a:solidFill>
                <a:latin typeface="Consolas"/>
              </a:rPr>
              <a:t>Amazonk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Najväčšia rieka na sve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Súperí s Africkým</a:t>
            </a: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Níl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Nachádza sa v Južnej Amerik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späť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Picture 4" descr="http://img.aktualne.centrum.cz/58/59/585967-reka-amazonka.jpg"/>
          <p:cNvPicPr/>
          <p:nvPr/>
        </p:nvPicPr>
        <p:blipFill>
          <a:blip r:embed="rId1"/>
          <a:stretch/>
        </p:blipFill>
        <p:spPr>
          <a:xfrm rot="20308200">
            <a:off x="5000760" y="3785760"/>
            <a:ext cx="287172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1eeff"/>
                </a:solidFill>
                <a:latin typeface="Consolas"/>
              </a:rPr>
              <a:t>Angelov vodopád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najvyšší vodopád na sve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nachádza sa v Južnej Amerike v Guayanskej vysoč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výška cca 979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späť</a:t>
            </a:r>
            <a:br>
              <a:rPr sz="3000"/>
            </a:b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www.birdz.sk/uploady/maslo/velky-salto1.jpg"/>
          <p:cNvPicPr/>
          <p:nvPr/>
        </p:nvPicPr>
        <p:blipFill>
          <a:blip r:embed="rId1"/>
          <a:stretch/>
        </p:blipFill>
        <p:spPr>
          <a:xfrm>
            <a:off x="5857920" y="4248000"/>
            <a:ext cx="14288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1eeff"/>
                </a:solidFill>
                <a:latin typeface="Consolas"/>
              </a:rPr>
              <a:t>Atlantický oceá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855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ffff"/>
                </a:solidFill>
                <a:latin typeface="Corbel"/>
              </a:rPr>
              <a:t>Atlantický oceán</a:t>
            </a: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 je druhý najväčší oceán, medzi západnou Európou a Afrikou, východným pobrežím Severnej Ameriky a Južnej Ameriky a Antarktídou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Názov oceánu pochádza z gréckej mytológie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Corbel"/>
              </a:rPr>
              <a:t>späť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http://www.paradisetravel.sk/cms/rarity/21.jpg"/>
          <p:cNvPicPr/>
          <p:nvPr/>
        </p:nvPicPr>
        <p:blipFill>
          <a:blip r:embed="rId1"/>
          <a:stretch/>
        </p:blipFill>
        <p:spPr>
          <a:xfrm rot="19637400">
            <a:off x="4600080" y="4881240"/>
            <a:ext cx="23180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2:33Z</dcterms:created>
  <dc:creator>jan</dc:creator>
  <dc:description/>
  <dc:language>en-US</dc:language>
  <cp:lastModifiedBy>lenovo_ntb</cp:lastModifiedBy>
  <dcterms:modified xsi:type="dcterms:W3CDTF">2010-06-13T12:03:48Z</dcterms:modified>
  <cp:revision>16</cp:revision>
  <dc:subject/>
  <dc:title>A</dc:title>
</cp:coreProperties>
</file>