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CEF-7165-4BD1-A5E9-5A14F1A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47C-E6E1-43E0-A8D1-ED2EFE51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7D9-A704-44CC-9760-A4D4F052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11D-F2A2-4D48-AC59-52C406DB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9DCD-E658-4EB1-A73D-CCA2F20F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36DE-F82F-4707-B16B-56FE7B6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7D53-CC01-4F24-8F89-269700E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B92-6D3C-4FD7-B7DE-0F35344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3290-E530-454A-88FB-22C4607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9B8-E14B-4F56-890D-710DB9FE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79C-B4D4-4981-83EB-9AC10C24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66E-0631-4618-B55A-03E9BDC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CD3-D00E-4FBB-95D2-D1BA21D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8B47-F07D-4AE4-9FB0-C7DA050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AF38-4303-4EEF-B907-370E685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830-78DB-4443-A627-9CCA3993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774-CADF-4F3E-AF0A-051D6E91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B3030-CAE2-484A-B903-F3C7BAE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F4AF5-B42A-4176-B8D4-59B9AD5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0E00A-E426-4684-8A9F-AF6FDBD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87812-E37F-44A2-B7D1-2161849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D35B1-B4E5-4B15-90F7-BC54228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6A5-9BBE-442C-AFAC-1AE1CB1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D4039-8F81-413C-928A-54C85A4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0102E-3A3E-46FA-BD75-2A1F0FF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8817-C41A-4760-B255-9E0718E0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41485-FBFE-40DA-88DB-2E051D7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D0409-C005-4D9C-B4A6-15A50820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E8DC1-6561-4992-8151-D9DBF53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13B29-6133-4EF6-9FC0-C012DDA3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1847B-2E94-4B03-9094-8DD0FAC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C62DF-146D-4E86-9142-C4E65F3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B51DA-B34D-47D4-835C-A746399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184-A012-4A84-A6D4-554B00E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EE28C-B6FC-4514-841A-C9F98C3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782CE-3F71-490D-ACFA-F125705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84737-613A-4DB9-9819-93C784A3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80157-418F-42FD-ABE2-8DEA235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F23B1-E2E8-4414-AFED-B6A8BF3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2AD60-4CE4-49D9-8D36-D95D2BE6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56637-DBF1-4A3A-98B1-BAE9036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C3171-2524-40AA-AF0C-6B298F4A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1CE6B-2ABF-4AD7-8DE2-199899CE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79275-7D89-442D-AEF4-76CE6233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BE9-4AD6-4CBB-905B-9BCD832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190C5-CC56-4502-AECE-0633464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EAE75-8B5A-434B-BD4B-FBD77F9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923E0-107F-4CDF-B2D2-7A4C93A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989DD-8F43-407A-90A2-9661488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E3BC4-76A2-4FA5-BBA1-A5415FE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AD5F2-20B1-4579-9957-8EFC0DB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BBA4C-53CD-491A-A2CA-B178914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511BF-225C-47A9-97B4-455C724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84A16-E44D-4972-8928-3B6B588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554A4-862D-4DD0-B242-512DEB44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04B-96BD-493A-8AC4-B17E344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DD895-8563-4494-AA6F-AD40793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0821-5CCC-4512-B06A-C1F746DD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21E30-8190-4FAC-ABB0-629A289D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639A-2117-4DB2-B259-DD954EEC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05456-0F67-4C2B-9DE0-35F8450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72D8-6161-41C0-9BF0-E6DC4F90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6EB6-DBAE-4B93-ABD4-9269471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76BC-0E5A-44DE-921A-D554E20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61F1-DD34-4F5B-A888-2B30A4B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86D46-1CA4-444D-89A1-37BDCBA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BE8-AD15-4D53-89CB-AF09FD4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530B-E675-4CEF-BF93-87B11C88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5463-A89C-4088-8987-13B47866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BF26-F4D5-41C5-B508-A81EC377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0638C-4275-463C-8371-1452FA6E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EB152-6426-45B2-8C71-AD6A27ED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E1FB9-5372-4F73-A322-107D6631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594C4-59B5-4AB0-9DB6-B6E5531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1946E-4ADB-4817-A918-D3FEE30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9FD21-E8C9-4567-A7AE-7EAF8403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38086-5C63-4B8D-AAA6-5637BD2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645-1FDE-453F-94DF-D8E39EE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A8E1D-95EC-4706-A584-55BE32D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42DFB-5B80-44C8-91F7-C36DA25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E0520-A731-42E5-96C0-C04CD5B1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D39C9-B76F-4991-8A67-65C8328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EE9CE-C6A5-41E7-A772-69607A8C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5F1B-8049-4DA6-A622-E96B0FB3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A7C6-FF28-4FCE-A801-D55DC92B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36C4E-B594-47EC-BF75-19547E3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80CEA-BD94-424D-A88B-AE92FB7E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DD81F-B57E-4853-95AE-347E6A41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5CF-5F47-4356-9823-8F5B7A4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FF3A7-00FA-4897-91AA-67533B50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EDE0-55CD-4A1C-A844-ED4AD38B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6F8C-CB85-4D29-BC03-2A78289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B96E-48A3-457D-88F8-A6C801E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9385-4C34-4FE3-AF30-70F142F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438A-E9CF-471F-AAA7-E16292F5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CFE7-5258-499E-A737-084382B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ĺžni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ĺžni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ĺžni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DCE-8350-4E7A-9B0F-59EFCAEA1DF4}" type="slidenum">
              <a:rPr b="1" lang="sk-SK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ĺžni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ĺžni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ĺžni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AC1D-DF98-4975-95B9-C44AA352E2F1}" type="slidenum">
              <a:rPr b="1" lang="sk-SK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ĺžni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ĺžni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ĺžni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2F0-9C1F-4AA5-817F-18DE646A84D9}" type="slidenum">
              <a:rPr b="1" lang="sk-SK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ĺžni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ĺžni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870-66E0-48EC-98E5-D4EF5FE33AF7}" type="slidenum">
              <a:rPr b="1" lang="sk-SK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ĺžni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ĺžni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263-1307-45C2-B42D-8BC57DE995C2}" type="slidenum">
              <a:rPr b="1" lang="sk-SK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8FC-5CBD-447E-AA80-E8C5416091F8}" type="slidenum">
              <a:rPr b="1" lang="sk-SK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ĺžni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ĺžni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ĺžni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ĺžni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0BD1-E8C3-4CF3-9EC7-BE7B48066ED7}" type="slidenum">
              <a:rPr b="1" lang="sk-SK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ĺžni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ĺžni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ĺžni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F6D-FABF-440C-82D5-D55C3C4A6AC7}" type="slidenum">
              <a:rPr b="1" lang="sk-SK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775f55"/>
                </a:solidFill>
                <a:latin typeface="Tw Cen MT"/>
              </a:rPr>
              <a:t>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ordille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aliforn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alifornský polostrov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aribské mo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autor: Pavol Dank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Šípka doprava 3"/>
          <p:cNvSpPr/>
          <p:nvPr/>
        </p:nvSpPr>
        <p:spPr>
          <a:xfrm>
            <a:off x="6500880" y="5572080"/>
            <a:ext cx="2000160" cy="91296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w Cen MT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775f55"/>
                </a:solidFill>
                <a:latin typeface="Tw Cen MT"/>
              </a:rPr>
              <a:t>Kordille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ordillery sú v Južnej Amerike nazývané And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Sú najdlhším pohorím v Ameri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spä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5" name="Picture 2" descr="http://www.tyden.cz/obrazek/cestou3-47c2c3fb3b4b4_275x183.jpg"/>
          <p:cNvPicPr/>
          <p:nvPr/>
        </p:nvPicPr>
        <p:blipFill>
          <a:blip r:embed="rId1"/>
          <a:stretch/>
        </p:blipFill>
        <p:spPr>
          <a:xfrm>
            <a:off x="2857680" y="3143160"/>
            <a:ext cx="3863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775f55"/>
                </a:solidFill>
                <a:latin typeface="Tw Cen MT"/>
              </a:rPr>
              <a:t>Kalifor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Je jedným z najbohatších štátov v Ameri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Má 35,3 milióna obyvateľov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             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spä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4" descr="http://www.vinovino.sk/wp-content/uploads/2010/01/kalifornia-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067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775f55"/>
                </a:solidFill>
                <a:latin typeface="Tw Cen MT"/>
              </a:rPr>
              <a:t>Kalifornský polostrov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Rozkladá sa na rozlohe 143 396 km štvorcových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Nachádza sa na subtropickom podnebí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spä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2" descr="http://static.markiza.sk/a501/image/file/4/0110/78PS61ZT.jpg"/>
          <p:cNvPicPr/>
          <p:nvPr/>
        </p:nvPicPr>
        <p:blipFill>
          <a:blip r:embed="rId1"/>
          <a:stretch/>
        </p:blipFill>
        <p:spPr>
          <a:xfrm>
            <a:off x="2571840" y="3429000"/>
            <a:ext cx="47624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775f55"/>
                </a:solidFill>
                <a:latin typeface="Tw Cen MT"/>
              </a:rPr>
              <a:t>Karibské mo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Karibské more ľudovo povedané Karibik je tropické more Atlantického oceán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Zo západu a juhu je ohraničené Mexikom, Strednou a Južnou Ameriko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w Cen MT"/>
              </a:rPr>
              <a:t>spä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http://www.karibskemore.cz/photo/karibske-ostrovy.jpg"/>
          <p:cNvPicPr/>
          <p:nvPr/>
        </p:nvPicPr>
        <p:blipFill>
          <a:blip r:embed="rId1"/>
          <a:stretch/>
        </p:blipFill>
        <p:spPr>
          <a:xfrm>
            <a:off x="2428920" y="371484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38:15Z</dcterms:created>
  <dc:creator>fjhufbvfgvz</dc:creator>
  <dc:description/>
  <dc:language>en-US</dc:language>
  <cp:lastModifiedBy>lenovo_ntb</cp:lastModifiedBy>
  <dcterms:modified xsi:type="dcterms:W3CDTF">2010-06-13T12:55:46Z</dcterms:modified>
  <cp:revision>12</cp:revision>
  <dc:subject/>
  <dc:title>Snímka 1</dc:title>
</cp:coreProperties>
</file>